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3C096-AD91-40FF-9AAA-9E13F7CF87F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ема лекции: Информационные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лан ле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BEAF-2C75-4E92-848F-257BEB973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37DF-52A9-43D7-94D4-E985CC28B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D876-51FC-4422-9195-4CFD5ABC5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7FCC-92CC-4267-8EF8-9BA98662D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98C30-1DDE-4580-92CF-EDF31E6E8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102B7-7565-46CA-8441-01895994C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04EBE-9B6F-4C45-8440-3758F1CDA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7F3A0-F0CC-4C9E-ABEE-CCD232696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BE645-3465-4DB7-AA6E-68F4F2C28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14E63-EFFB-4C93-AEBC-55D6EDD2E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DAE67-6145-4794-BCC2-1F6F1388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9960-50F3-44E2-8641-900120738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D461E-D9FE-49A7-B3BB-A718810B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88136-7D18-418A-A2AD-D2F67344B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67EAB-8BE3-4625-8710-3975C3D18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E9464-5628-446A-AFC7-581E9726C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A6015-688C-4C50-B25D-BD3BBC405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D583-14A9-4B9A-8E4A-E53945672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F879-321F-4BFF-BC52-EE7D4D3F1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5265-EBD8-4482-9B0F-AF85CE360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5DFA-D872-47E0-9FE4-F25A4805B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6ACC-30AB-407E-AC4B-8585A3B7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BD91-50C3-4F82-ACE1-AFC17815C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F195-C74D-4C38-A8F3-813DD4B8E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EA466-B0EE-40A9-9E62-2EB35194A29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480B9-6132-40EC-9A73-0D55B01D96A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33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2565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Информационные системы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6870600" cy="12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cc"/>
                </a:solidFill>
                <a:latin typeface="Comic Sans MS"/>
              </a:rPr>
              <a:t>Моделирование реальности в информационных системах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11280" y="1988640"/>
            <a:ext cx="7696080" cy="31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66cc"/>
                </a:solidFill>
                <a:latin typeface="Comic Sans MS"/>
              </a:rPr>
              <a:t>Модели данных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инструменты моделирования, реализованные в программных средствах для создания структурированных и слабоструктурированных представлений предметной област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66cc"/>
                </a:solidFill>
                <a:latin typeface="Comic Sans MS"/>
              </a:rPr>
              <a:t>Модель данных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– совокупность правил структурирования данных и  допустимых операций над ними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0560" y="209160"/>
            <a:ext cx="7489800" cy="12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cc"/>
                </a:solidFill>
                <a:latin typeface="Comic Sans MS"/>
              </a:rPr>
              <a:t>Функциональные возможности информационных систем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39800" y="1436400"/>
            <a:ext cx="769608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Comic Sans MS"/>
              </a:rPr>
              <a:t>Основные функции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бор и регистрация информационных ресурсов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Хранение информационных ресурсов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Актуализация информационных ресурсов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Обработка информационных ресурсов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едоставление информационных ресурсов пользователям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Comic Sans MS"/>
              </a:rPr>
              <a:t>Дополнительные функции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Управление распределенными информационными ресурсами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Защита физической целостности информационных ресурсов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Обеспечение информационной безопасности в систем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Администрирование информационных ресурсов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0560" y="209160"/>
            <a:ext cx="7489800" cy="12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cc"/>
                </a:solidFill>
                <a:latin typeface="Comic Sans MS"/>
              </a:rPr>
              <a:t>Функциональные возможности информационных систем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39800" y="1436400"/>
            <a:ext cx="769608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cc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3366cc"/>
                </a:solidFill>
                <a:latin typeface="Comic Sans MS"/>
              </a:rPr>
              <a:t>Сбор и регистрация информационных ресурсов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Путем измерений (наблюдений), фактов в реальном мире и ввода данных в систему вручную с помощью клавиатуры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Полуавтоматически,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путем ввода в компьютер с некоторых носителе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Автоматически, с помощью различного рода датчиков или обмена данными с с другими автоматизированными системам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cc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3366cc"/>
                </a:solidFill>
                <a:latin typeface="Comic Sans MS"/>
              </a:rPr>
              <a:t>Сопутствующие задачи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Очистка данных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Верификация данных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Сжатие данных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Конвертирование из одного формата в друго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50560" y="209160"/>
            <a:ext cx="7489800" cy="12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cc"/>
                </a:solidFill>
                <a:latin typeface="Comic Sans MS"/>
              </a:rPr>
              <a:t>Функциональные возможности информационных систем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39800" y="1550520"/>
            <a:ext cx="7696080" cy="40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Comic Sans MS"/>
              </a:rPr>
              <a:t>Очистка данных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стадия предварительной обработки данных и подготовки их к загрузке в систему (особенно необходима в случаях, когда используется несколько источников данных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Comic Sans MS"/>
              </a:rPr>
              <a:t>Включает в себя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Фильтрация данных (производит отбор нужных данных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ерификация данных (обеспечивает достоверность данных и их логическую целостность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Устранение несогласованности, избыточности и различных ошибок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cc"/>
                </a:solidFill>
                <a:latin typeface="Comic Sans MS"/>
              </a:rPr>
              <a:t>Проверка достоверности данных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процедура, позволяющая установить, адекватно ли характеризуют состояние предметной области, собранные для ввода в информационную систему информационные ресурсы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0560" y="209160"/>
            <a:ext cx="7489800" cy="12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cc"/>
                </a:solidFill>
                <a:latin typeface="Comic Sans MS"/>
              </a:rPr>
              <a:t>Функциональные возможности информационных систем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39800" y="1550520"/>
            <a:ext cx="7935840" cy="40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66cc"/>
                </a:solidFill>
                <a:latin typeface="Comic Sans MS"/>
              </a:rPr>
              <a:t>Сжатие данных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осуществляется с целью минимизации ресурсов памяти, необходимых для хранения данных, а также для снижения затрат  на передачу данных по коммуникационным каналам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Данные в систем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активные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архивные (хранение в сжатом виде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66cc"/>
                </a:solidFill>
                <a:latin typeface="Comic Sans MS"/>
              </a:rPr>
              <a:t>Конвертирование данных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при вводе в систему используется для преобразования данных из одного формата в другой, допускающий автоматизированный импорт их в информационную систему. Часто необходимо в случаях, когда источник данных – другая систем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2627280" y="3213000"/>
            <a:ext cx="50472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500720" y="3284640"/>
            <a:ext cx="50472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0560" y="209160"/>
            <a:ext cx="7489800" cy="12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cc"/>
                </a:solidFill>
                <a:latin typeface="Comic Sans MS"/>
              </a:rPr>
              <a:t>Функциональные возможности информационных систем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82120" y="1436760"/>
            <a:ext cx="7696440" cy="40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cc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3366cc"/>
                </a:solidFill>
                <a:latin typeface="Comic Sans MS"/>
              </a:rPr>
              <a:t>Хранение информационных ресурсов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– функция информационных систем, связанная с необходимостью управления двумя видами ресурсов – ресурсами хранимых данных и ресурсами памят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1. Файловая организация хранения информации: в системах текстового поиска, в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EB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на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TM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2. Хранение данных в системах основанных на технологиях баз данных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3366cc"/>
                </a:solidFill>
                <a:latin typeface="Comic Sans MS"/>
              </a:rPr>
              <a:t>Управление хранимыми данными в системах баз данных включает в себя: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поддержку структуры хранимых данных, их размещение в пространстве памяти, поддержку физической целостности и обеспечение доступа к ним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50560" y="209160"/>
            <a:ext cx="7489800" cy="12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cc"/>
                </a:solidFill>
                <a:latin typeface="Comic Sans MS"/>
              </a:rPr>
              <a:t>Функциональные возможности информационных систем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82120" y="1436760"/>
            <a:ext cx="7696440" cy="40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66cc"/>
                </a:solidFill>
                <a:latin typeface="Comic Sans MS"/>
              </a:rPr>
              <a:t>Актуализация информационных ресурсов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 соответствии с определением информационной системы ее назначение состоит в поддержке динамической информационной модели ее предметной области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Для актуализации модели требуется актуализация информационных ресурсов, т.е. приведение их в соответствие текущему состоянию предметной области системы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Актуализация информационных ресурсов в информационных системах производится дискретно, через определенные интервалы времен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0560" y="209160"/>
            <a:ext cx="7489800" cy="12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cc"/>
                </a:solidFill>
                <a:latin typeface="Comic Sans MS"/>
              </a:rPr>
              <a:t>Функциональные возможности информационных систем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3600" y="1536840"/>
            <a:ext cx="769644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cc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3366cc"/>
                </a:solidFill>
                <a:latin typeface="Comic Sans MS"/>
              </a:rPr>
              <a:t>Предоставление информационных ресурсов пользователям: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может осуществляться с помощью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ull-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технологий и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ush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-технологий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66cc"/>
                </a:solidFill>
                <a:latin typeface="Comic Sans MS"/>
              </a:rPr>
              <a:t>pull-</a:t>
            </a:r>
            <a:r>
              <a:rPr b="0" lang="ru-RU" sz="2000" spc="-1" strike="noStrike">
                <a:solidFill>
                  <a:srgbClr val="3366cc"/>
                </a:solidFill>
                <a:latin typeface="Comic Sans MS"/>
              </a:rPr>
              <a:t>технологии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: Инициатор предоставления информационных ресурсов – пользователь (предусмотрено наличие пользовательских интерфейсов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66cc"/>
                </a:solidFill>
                <a:latin typeface="Comic Sans MS"/>
              </a:rPr>
              <a:t>push-</a:t>
            </a:r>
            <a:r>
              <a:rPr b="0" lang="ru-RU" sz="2000" spc="-1" strike="noStrike">
                <a:solidFill>
                  <a:srgbClr val="3366cc"/>
                </a:solidFill>
                <a:latin typeface="Comic Sans MS"/>
              </a:rPr>
              <a:t>технологии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: Инициатор предоставления информационных ресурсов – сама система, в соответствии с определенным регламентом и для определенного круга пользователе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3366cc"/>
                </a:solidFill>
                <a:latin typeface="Comic Sans MS"/>
              </a:rPr>
              <a:t>Пользовательский интерфейс включает в себя: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технические средства, язык или языки интерфейса, программные средства, поддерживающие функционирование интерфейсного оборудования и языков интерфейс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50560" y="209160"/>
            <a:ext cx="7489800" cy="12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cc"/>
                </a:solidFill>
                <a:latin typeface="Comic Sans MS"/>
              </a:rPr>
              <a:t>Разновидности информационных систем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898640" y="1547280"/>
            <a:ext cx="650232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cc"/>
                </a:solidFill>
                <a:latin typeface="Comic Sans MS"/>
              </a:rPr>
              <a:t>Характеристики информационных систем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Предметная область системы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Вид поддерживаемых информационных ресурсов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Функции обработки информационных ресурсов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Среда хранения информационных ресурсов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Объем информационных ресурсов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Динамика информационных ресурсов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Состав лингвистических ресурсов системы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Архитектура системы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Регламент обслуживания пользователей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Расписание функционирования системы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Способы и ограничение доступа к системе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Пользовательские интерфейсы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Программно-аппаратная платформа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Коммуникационное оборудование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Программное обеспечение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Возможное количество пользователей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68709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cc"/>
                </a:solidFill>
                <a:latin typeface="Comic Sans MS"/>
              </a:rPr>
              <a:t>Информационные системы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20280" y="1779120"/>
            <a:ext cx="76964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сновные понят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Ресурсы информационных систем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Моделирование реальности в информационных системах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Функциональные возможност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Типы информационных систем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cc"/>
                </a:solidFill>
                <a:latin typeface="Comic Sans MS"/>
              </a:rPr>
              <a:t>Понятие информационных систем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8532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400" spc="-1" strike="noStrike">
                <a:solidFill>
                  <a:srgbClr val="3366cc"/>
                </a:solidFill>
                <a:latin typeface="Comic Sans MS"/>
              </a:rPr>
              <a:t>Автоматизированная информационная систем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комплекс вычислительного и коммуникационного оборудования, программного обеспечения, лингвистических средств и информационных ресурсов, а также системного персонала, обеспечивающего поддержку динамической информационной модели некоторой части реального мир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400" spc="-1" strike="noStrike">
                <a:solidFill>
                  <a:srgbClr val="3366cc"/>
                </a:solidFill>
                <a:latin typeface="Comic Sans MS"/>
              </a:rPr>
              <a:t>Предметная область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часть реального мира, которая моделируется информационной системо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cc"/>
                </a:solidFill>
                <a:latin typeface="Comic Sans MS"/>
              </a:rPr>
              <a:t>Понятие информационных систем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3640" y="1700280"/>
            <a:ext cx="82436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400" spc="-1" strike="noStrike">
                <a:solidFill>
                  <a:srgbClr val="3366cc"/>
                </a:solidFill>
                <a:latin typeface="Comic Sans MS"/>
              </a:rPr>
              <a:t>Автоматизированная информационная систем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en-US" sz="2400" spc="-1" strike="noStrike">
                <a:solidFill>
                  <a:srgbClr val="3366cc"/>
                </a:solidFill>
                <a:latin typeface="Comic Sans MS"/>
              </a:rPr>
              <a:t>(с функциональной точки зрения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система, предназначенная для сбора, передачи, обработки, хранения и выдачи информации пользователям, основные компоненты которой: программное обеспечение, информационное обеспечение, технические средства, обслуживающий персонал.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400" spc="-1" strike="noStrike">
                <a:solidFill>
                  <a:srgbClr val="3366cc"/>
                </a:solidFill>
                <a:latin typeface="Comic Sans MS"/>
              </a:rPr>
              <a:t>Основное свойство любой информационной системы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поддержка динамической информационной модели предметной области.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4000" y="549360"/>
            <a:ext cx="6870600" cy="12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cc"/>
                </a:solidFill>
                <a:latin typeface="Comic Sans MS"/>
              </a:rPr>
              <a:t>Ресурсы информационных систем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2116080"/>
            <a:ext cx="7696080" cy="34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редства вычислительной техник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истемное и прикладное П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Информационные ресурс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Лингвистические и человеческие ресурс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омещения, их техническое оснащение, электроснабжение и т.д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6870600" cy="12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cc"/>
                </a:solidFill>
                <a:latin typeface="Comic Sans MS"/>
              </a:rPr>
              <a:t>Средства вычислительной техник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96960" y="1628640"/>
            <a:ext cx="769608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66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cc"/>
                </a:solidFill>
                <a:latin typeface="Comic Sans MS"/>
              </a:rPr>
              <a:t>Различные аппаратные платформы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Отдельные компьютеры, вычислительные системы, вычислительные сет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66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cc"/>
                </a:solidFill>
                <a:latin typeface="Comic Sans MS"/>
              </a:rPr>
              <a:t>Коммуникационное оборудован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Обеспечивает взаимодействие компонентов распределенных систем, например обмен данными между компьютерами сети,  удаленный доступ пользователей к ресурсам системы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Выделенные или коммутируемые проводные и беспроводные каналы связ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Сетевое оборудовани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Устройства приема –передачи информации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6870600" cy="12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cc"/>
                </a:solidFill>
                <a:latin typeface="Comic Sans MS"/>
              </a:rPr>
              <a:t>Системное и прикладное программное обеспечени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9040" y="1498320"/>
            <a:ext cx="76964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cc"/>
                </a:solidFill>
                <a:latin typeface="Comic Sans MS"/>
              </a:rPr>
              <a:t>Системное ПО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Операционные системы для используемых аппаратных платформ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Системы программировани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Системные тесты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Служебные программы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Сетевое ПО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cc"/>
                </a:solidFill>
                <a:latin typeface="Comic Sans MS"/>
              </a:rPr>
              <a:t>Прикладное ПО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Типовое прикладное ПО (ориентированное на классы задач, коммерческие программные продукты: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B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-серверы, системы текстового поиска, конверторы данных, программы распознавания текста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Специализированное  прикладное ПО (создается для конкретной информационной системы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6870600" cy="12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cc"/>
                </a:solidFill>
                <a:latin typeface="Comic Sans MS"/>
              </a:rPr>
              <a:t>Лингвистические ресурсы системы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79040" y="1498320"/>
            <a:ext cx="76964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Comic Sans MS"/>
              </a:rPr>
              <a:t>Служат для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Представления информационных ресурсов в систем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Описания их свойст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Обеспечения взаимодействия пользователя с сетью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Comic Sans MS"/>
              </a:rPr>
              <a:t>К лингвистическим ресурсам относятся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Разнообразные естественные или искусственные язык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Словари лексики естественных языков, переводные словари и т.д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6870600" cy="12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cc"/>
                </a:solidFill>
                <a:latin typeface="Comic Sans MS"/>
              </a:rPr>
              <a:t>Моделирование реальности в информационных системах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22440" y="1770120"/>
            <a:ext cx="7696080" cy="38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Comic Sans MS"/>
              </a:rPr>
              <a:t>Модели предметной области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труктурированные модели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(основаны на выявлении регулярной структуры предметной области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лабоструктурированные модели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(регулярная структура предметной области не определена или не существует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Формальные модели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(моделирование предметной области, основанное на использовании формальных языков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еструктурированные модели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вербальные модели, описывающие реальность в виде текстов на естественном языке, нет структуры предметной области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31T08:03:29Z</dcterms:created>
  <dc:creator>Goroh</dc:creator>
  <dc:description/>
  <dc:language>en-US</dc:language>
  <cp:lastModifiedBy>Горохова Ольга</cp:lastModifiedBy>
  <dcterms:modified xsi:type="dcterms:W3CDTF">2004-11-13T09:10:15Z</dcterms:modified>
  <cp:revision>19</cp:revision>
  <dc:subject/>
  <dc:title>Информационные системы</dc:title>
</cp:coreProperties>
</file>