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wmf" ContentType="image/x-wmf"/>
  <Override PartName="/ppt/media/image1.jpeg" ContentType="image/jpeg"/>
  <Override PartName="/ppt/media/SPKGLISS.WAV" ContentType="audio/x-wav"/>
  <Override PartName="/ppt/media/image6.wmf" ContentType="image/x-wmf"/>
  <Override PartName="/ppt/media/image11.wmf" ContentType="image/x-wmf"/>
  <Override PartName="/ppt/media/image3.png" ContentType="image/png"/>
  <Override PartName="/ppt/media/MELORISE.WAV" ContentType="audio/x-wav"/>
  <Override PartName="/ppt/media/image5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TYPE.WAV" ContentType="audio/x-wav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002-80BE-41FD-A777-928A4DF0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A7E-54B9-4307-B67A-90612ED1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8D5-EE94-4CD4-A2EF-420BE0F3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E3C-CED9-4FDA-9785-09A348F6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8BA-E2EF-44E4-8A19-369C7FC8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60C-8109-466D-8F98-A4BB9776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A78-5137-4EE2-B7CC-94F17BC3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34A-8FE9-49E7-A734-3E950FBC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412-6E2F-4CAA-9C2C-926BB291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68C-26EC-44B1-A148-55F45BB4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FB3-9031-453B-804F-0C0872FD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BE2-286D-4782-86DD-D2D57879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6806-B5BC-46B9-BB6F-7B64062BDD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ELORI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audio" Target="../media/TYPE.WAV"/><Relationship Id="rId5" Type="http://schemas.openxmlformats.org/officeDocument/2006/relationships/audio" Target="../media/SPKGLIS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.wmf"/><Relationship Id="rId8" Type="http://schemas.openxmlformats.org/officeDocument/2006/relationships/audio" Target="../media/SPKGLISS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audio" Target="../media/SPKGLIS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audio" Target="../media/SPKGLIS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ВОЛОКОННО - ОПТИЧЕСКИЕ СИСТЕМЫ  ПЕРЕ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81080"/>
            <a:ext cx="914400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Arial Black"/>
              </a:rPr>
              <a:t>НОР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 Black"/>
              </a:rPr>
              <a:t>ПРИЕМО - СДАТОЧНЫХ ИЗМЕРЕНИЙ ЭЛЕМЕНТАРНЫХ КАБЕЛЬНЫХ УЧАСТКОВ И КАБЕЛЬНЫХ РЕГЕНЕРАЦИОННЫХ СЕКЦИЙ ВЫСОКОСКОРОСТНЫХ ВОЛОКОННО-ОПТИЧЕСКИХ СИСТЕМ ПЕРЕДАЧИ СО СПЕКТРАЛЬНЫМ УПЛОТНЕНИ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LORI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ОПТИЧЕСКОЕ ВОЛОКНО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.6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828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Диаметр поля моды, мкм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9,7+-0,6;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10,5+-1,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48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концентричность, мкм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114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Диаметр оболочки, мкм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125+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105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круглость, %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ОПТИЧЕСКОЕ ВОЛОКНО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.6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85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Эксцентриситет сердцевины, мкм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2895480"/>
            <a:ext cx="9144000" cy="1572120"/>
            <a:chOff x="0" y="2895480"/>
            <a:chExt cx="9144000" cy="1572120"/>
          </a:xfrm>
        </p:grpSpPr>
        <p:sp>
          <p:nvSpPr>
            <p:cNvPr id="179" name=""/>
            <p:cNvSpPr/>
            <p:nvPr/>
          </p:nvSpPr>
          <p:spPr>
            <a:xfrm>
              <a:off x="0" y="289548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Показатель преломления </a:t>
              </a:r>
              <a:r>
                <a:rPr b="1" lang="en-US" sz="3200" spc="-1" strike="noStrike">
                  <a:solidFill>
                    <a:srgbClr val="336600"/>
                  </a:solidFill>
                  <a:latin typeface="Arial"/>
                </a:rPr>
                <a:t>n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342900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1310 нм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1,46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388620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1550 нм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1,46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0" y="47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Разность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0,29…0,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41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Длина на катушке, км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4,4…25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"/>
                            </p:stCondLst>
                            <p:childTnLst>
                              <p:par>
                                <p:cTn id="2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700"/>
                            </p:stCondLst>
                            <p:childTnLst>
                              <p:par>
                                <p:cTn id="2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700"/>
                            </p:stCondLst>
                            <p:childTnLst>
                              <p:par>
                                <p:cTn id="2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200"/>
                            </p:stCondLst>
                            <p:childTnLst>
                              <p:par>
                                <p:cTn id="2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ОПТИЧЕСКОЕ ВОЛОКНО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.6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0" y="1981080"/>
            <a:ext cx="9144000" cy="3324600"/>
            <a:chOff x="0" y="1981080"/>
            <a:chExt cx="9144000" cy="3324600"/>
          </a:xfrm>
        </p:grpSpPr>
        <p:sp>
          <p:nvSpPr>
            <p:cNvPr id="186" name=""/>
            <p:cNvSpPr/>
            <p:nvPr/>
          </p:nvSpPr>
          <p:spPr>
            <a:xfrm>
              <a:off x="0" y="1981080"/>
              <a:ext cx="91440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Затухание, </a:t>
              </a:r>
              <a:r>
                <a:rPr b="1" i="1" lang="ru-RU" sz="3200" spc="-1" strike="noStrike">
                  <a:solidFill>
                    <a:srgbClr val="336600"/>
                  </a:solidFill>
                  <a:latin typeface="Arial"/>
                </a:rPr>
                <a:t>д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Б/км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      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0,1…0,2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336600"/>
                  </a:solidFill>
                  <a:latin typeface="Arial"/>
                </a:rPr>
                <a:t>m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     0,20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228600" y="4038480"/>
                  <a:ext cx="289548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5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75</m:t>
                      </m:r>
                      <m:r>
                        <m:rPr>
                          <m:lit/>
                          <m:nor/>
                        </m:rPr>
                        <m:t xml:space="preserve">нм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8" name=""/>
            <p:cNvGraphicFramePr/>
            <p:nvPr/>
          </p:nvGraphicFramePr>
          <p:xfrm>
            <a:off x="304920" y="4724280"/>
            <a:ext cx="4362480" cy="5684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4724280"/>
                      <a:ext cx="436248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"/>
            <p:cNvSpPr/>
            <p:nvPr/>
          </p:nvSpPr>
          <p:spPr>
            <a:xfrm>
              <a:off x="7924680" y="335268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0,0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29000" y="4038480"/>
              <a:ext cx="57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0,0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57600" y="4724280"/>
              <a:ext cx="548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       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0,0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914400" y="3276720"/>
                  <a:ext cx="53352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ОПТИЧЕСКОЕ ВОЛОКНО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.6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1828800"/>
            <a:ext cx="9144000" cy="3781800"/>
            <a:chOff x="0" y="1828800"/>
            <a:chExt cx="9144000" cy="3781800"/>
          </a:xfrm>
        </p:grpSpPr>
        <p:sp>
          <p:nvSpPr>
            <p:cNvPr id="196" name=""/>
            <p:cNvSpPr/>
            <p:nvPr/>
          </p:nvSpPr>
          <p:spPr>
            <a:xfrm>
              <a:off x="0" y="1828800"/>
              <a:ext cx="411480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Дисперси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хроматическая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наклон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поляризационная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3352680" y="2666880"/>
                  <a:ext cx="2032200" cy="50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нм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к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3886200" y="3962520"/>
                  <a:ext cx="158112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км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1676520" y="3278160"/>
                  <a:ext cx="243828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нм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к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0" y="502920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Обратное рассеяние, дБм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-5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43800" y="266688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       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43800" y="34290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  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0,0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43800" y="403848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      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0,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ЧЕТЫРЕХВОЛНОВОЕ СМЕШИ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828800"/>
            <a:ext cx="8763120" cy="2895480"/>
            <a:chOff x="380880" y="1828800"/>
            <a:chExt cx="8763120" cy="2895480"/>
          </a:xfrm>
        </p:grpSpPr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80880" y="1905120"/>
                  <a:ext cx="51768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380880" y="2819520"/>
                  <a:ext cx="4017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08" name=""/>
            <p:cNvGrpSpPr/>
            <p:nvPr/>
          </p:nvGrpSpPr>
          <p:grpSpPr>
            <a:xfrm>
              <a:off x="1295280" y="1828800"/>
              <a:ext cx="7848720" cy="2895480"/>
              <a:chOff x="1295280" y="1828800"/>
              <a:chExt cx="7848720" cy="289548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1295280" y="2362320"/>
                <a:ext cx="3962520" cy="609480"/>
                <a:chOff x="1295280" y="2362320"/>
                <a:chExt cx="3962520" cy="6094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295280" y="2666880"/>
                  <a:ext cx="167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81280" y="2666880"/>
                  <a:ext cx="167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971800" y="2362320"/>
                  <a:ext cx="609480" cy="6094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3048120" y="2437920"/>
                  <a:ext cx="30456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3200400" y="2590920"/>
                  <a:ext cx="30492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15" name=""/>
                  <p:cNvSpPr txBox="1"/>
                  <p:nvPr/>
                </p:nvSpPr>
                <p:spPr>
                  <a:xfrm>
                    <a:off x="5334120" y="2590920"/>
                    <a:ext cx="46512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6" name=""/>
                  <p:cNvSpPr txBox="1"/>
                  <p:nvPr/>
                </p:nvSpPr>
                <p:spPr>
                  <a:xfrm>
                    <a:off x="5257800" y="1828800"/>
                    <a:ext cx="685800" cy="64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7" name=""/>
                  <p:cNvSpPr txBox="1"/>
                  <p:nvPr/>
                </p:nvSpPr>
                <p:spPr>
                  <a:xfrm>
                    <a:off x="5308560" y="3352680"/>
                    <a:ext cx="3835440" cy="64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5334120" y="4114800"/>
                    <a:ext cx="380988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aphicFrame>
        <p:nvGraphicFramePr>
          <p:cNvPr id="219" name=""/>
          <p:cNvGraphicFramePr/>
          <p:nvPr/>
        </p:nvGraphicFramePr>
        <p:xfrm>
          <a:off x="2514600" y="5486400"/>
          <a:ext cx="3314880" cy="590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5486400"/>
                    <a:ext cx="33148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ОПТИЧЕСКОЕ ВОЛОКНО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.6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209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Диаметр сердцевины, мкм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6,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24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Диаметр поля моды, мкм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8,4+-0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8862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Показатель преломления,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310 нм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1,471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1550 нм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1,4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ОПТИЧЕСКОЕ ВОЛОКНО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.6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0" y="1905120"/>
            <a:ext cx="9144000" cy="4675680"/>
            <a:chOff x="0" y="1905120"/>
            <a:chExt cx="9144000" cy="4675680"/>
          </a:xfrm>
        </p:grpSpPr>
        <p:sp>
          <p:nvSpPr>
            <p:cNvPr id="227" name=""/>
            <p:cNvSpPr/>
            <p:nvPr/>
          </p:nvSpPr>
          <p:spPr>
            <a:xfrm>
              <a:off x="0" y="1905120"/>
              <a:ext cx="91440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Разность </a:t>
              </a:r>
              <a:r>
                <a:rPr b="1" lang="en-US" sz="3200" spc="-1" strike="noStrike">
                  <a:solidFill>
                    <a:srgbClr val="336600"/>
                  </a:solidFill>
                  <a:latin typeface="Arial"/>
                </a:rPr>
                <a:t>n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, %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       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0,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Дисперсия хроматическа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990720" y="3352680"/>
                  <a:ext cx="274320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in,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нм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к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990720" y="3962520"/>
                  <a:ext cx="27241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x,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нм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к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5867280" y="3352680"/>
              <a:ext cx="32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Arial"/>
                </a:rPr>
                <a:t>1,3 (- 4,5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39625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Arial"/>
                </a:rPr>
                <a:t>5,6 (- 2,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464832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поляризационная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3962520" y="4648320"/>
                  <a:ext cx="160020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nc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км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0" y="5257800"/>
              <a:ext cx="91440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средняя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0,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максимальная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3200" spc="-1" strike="noStrike">
                  <a:solidFill>
                    <a:srgbClr val="ff0066"/>
                  </a:solidFill>
                  <a:latin typeface="Arial"/>
                </a:rPr>
                <a:t>0,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380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ОЛЯРИЗАЦИОННАЯ МОДОВАЯ ДИСПЕРСИЯ. СИСТЕМНЫЙ ПРЕДЕЛ ДЛИНЫ КС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940120" y="2133720"/>
                <a:ext cx="33415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MD</m:t>
                        </m:r>
                      </m:sub>
                    </m:sSub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37" name=""/>
          <p:cNvGraphicFramePr/>
          <p:nvPr/>
        </p:nvGraphicFramePr>
        <p:xfrm>
          <a:off x="190440" y="3048120"/>
          <a:ext cx="9258480" cy="30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3048120"/>
                    <a:ext cx="925848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75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125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КОДЫ ПРИМЕНЕНИЯ ВОС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276720" y="1371600"/>
            <a:ext cx="2533680" cy="514440"/>
            <a:chOff x="3276720" y="1371600"/>
            <a:chExt cx="2533680" cy="514440"/>
          </a:xfrm>
        </p:grpSpPr>
        <p:graphicFrame>
          <p:nvGraphicFramePr>
            <p:cNvPr id="241" name=""/>
            <p:cNvGraphicFramePr/>
            <p:nvPr/>
          </p:nvGraphicFramePr>
          <p:xfrm>
            <a:off x="4438800" y="1371600"/>
            <a:ext cx="1371600" cy="5144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38800" y="1371600"/>
                      <a:ext cx="1371600" cy="51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3276720" y="137160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n W x -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0" y="198108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n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ичество оптических кана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 = L (ЭКУ 80км);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ЭКУ 120км);                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ЭКУ 160км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х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оличество усилительных участ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уровень С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2 (О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652);  = 5 (О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65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КОДЫ  ПРИМЕ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2280" y="1981080"/>
          <a:ext cx="9753840" cy="158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81080"/>
                    <a:ext cx="97538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0" y="4267080"/>
          <a:ext cx="9144000" cy="1371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6708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2743200" y="5715000"/>
          <a:ext cx="3429000" cy="5428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3200" y="5715000"/>
                    <a:ext cx="3429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380880" y="3429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 Black"/>
              </a:rPr>
              <a:t>Дисперсия, </a:t>
            </a:r>
            <a:r>
              <a:rPr b="0" lang="en-US" sz="3200" spc="-1" strike="noStrike">
                <a:solidFill>
                  <a:srgbClr val="336600"/>
                </a:solidFill>
                <a:latin typeface="Arial Black"/>
              </a:rPr>
              <a:t>D</a:t>
            </a:r>
            <a:r>
              <a:rPr b="0" lang="ru-RU" sz="3200" spc="-1" strike="noStrike">
                <a:solidFill>
                  <a:srgbClr val="336600"/>
                </a:solidFill>
                <a:latin typeface="Arial Black"/>
              </a:rPr>
              <a:t>,</a:t>
            </a:r>
            <a:r>
              <a:rPr b="0" lang="en-US" sz="3200" spc="-1" strike="noStrike">
                <a:solidFill>
                  <a:srgbClr val="336600"/>
                </a:solidFill>
                <a:latin typeface="Arial Black"/>
              </a:rPr>
              <a:t>nc/</a:t>
            </a:r>
            <a:r>
              <a:rPr b="0" lang="ru-RU" sz="3200" spc="-1" strike="noStrike">
                <a:solidFill>
                  <a:srgbClr val="336600"/>
                </a:solidFill>
                <a:latin typeface="Arial Black"/>
              </a:rPr>
              <a:t>н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1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 Black"/>
              </a:rPr>
              <a:t>Затухание, А</a:t>
            </a:r>
            <a:r>
              <a:rPr b="0" lang="en-US" sz="1600" spc="-1" strike="noStrike">
                <a:solidFill>
                  <a:srgbClr val="336600"/>
                </a:solidFill>
                <a:latin typeface="Arial Black"/>
              </a:rPr>
              <a:t>SR</a:t>
            </a:r>
            <a:r>
              <a:rPr b="0" lang="en-US" sz="3200" spc="-1" strike="noStrike">
                <a:solidFill>
                  <a:srgbClr val="336600"/>
                </a:solidFill>
                <a:latin typeface="Arial Black"/>
              </a:rPr>
              <a:t>, </a:t>
            </a:r>
            <a:r>
              <a:rPr b="0" lang="ru-RU" sz="3200" spc="-1" strike="noStrike">
                <a:solidFill>
                  <a:srgbClr val="336600"/>
                </a:solidFill>
                <a:latin typeface="Arial Black"/>
              </a:rPr>
              <a:t>д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Л И Т Е Р А Т У Р 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ОСТ 45.104 - 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12193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ыки оптические систем передачи синхронной цифровой иерарх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" y="2971800"/>
            <a:ext cx="32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ОСТ 45.178 -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2895480"/>
            <a:ext cx="556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ы передачи с оптическими усилителями и спектральным уплотнением. Стыки опт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80" y="510552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G.652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МСЭ-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51055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и одномодового волоконно-оптического каб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ЭКВИВАЛЕНТНОЕ  ЗНАЧЕНИЕ КОЭФФИЦИЕНТА  ЗАТУХ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8600" y="1981080"/>
                <a:ext cx="8610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α</m:t>
                        </m:r>
                      </m:e>
                    </m:bar>
                    <m:r>
                      <m:t xml:space="preserve">+</m:t>
                    </m:r>
                    <m:r>
                      <m:t xml:space="preserve">Δα</m:t>
                    </m:r>
                    <m:r>
                      <m:t xml:space="preserve">)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  <m:r>
                      <m:t xml:space="preserve">+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С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С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124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МАКСИМАЛЬНАЯ ДЛИНА КСР ПО ДИСПЕРС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33520" y="4495680"/>
                <a:ext cx="8153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Δλ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МД</m:t>
                        </m:r>
                      </m:sub>
                    </m:sSub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Д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19520" y="5410080"/>
                <a:ext cx="35179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Д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Δλ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457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МАКСИМАЛЬНАЯ ДЛИНА ЭКУ РУ БЕЗ ЛИНЕЙНЫХ О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895480" y="1828800"/>
                <a:ext cx="2959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'</m:t>
                            </m:r>
                            <m:r>
                              <m:t xml:space="preserve">Э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14400" y="2819520"/>
                <a:ext cx="73659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АБ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09480" y="3657600"/>
                <a:ext cx="80391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447920" y="46483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 Black"/>
              </a:rPr>
              <a:t>ПОДВЕСНЫЕ КАБ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90920" y="5410080"/>
                <a:ext cx="39621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'</m:t>
                        </m:r>
                        <m:r>
                          <m:t xml:space="preserve">Э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δ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457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МАКСИМАЛЬНАЯ ДЛИНА ЭКУ РУ БЕЗ ЛИНЕЙНЫХ О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8600" y="1828800"/>
            <a:ext cx="8610480" cy="3733920"/>
            <a:chOff x="228600" y="1828800"/>
            <a:chExt cx="8610480" cy="373392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685800" y="2057400"/>
                  <a:ext cx="815328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≤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ut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Ш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NF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lg</m:t>
                      </m:r>
                      <m:r>
                        <m:t xml:space="preserve">m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КАБ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762120" y="2819520"/>
                  <a:ext cx="2419200" cy="63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Э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838080" y="3657600"/>
                  <a:ext cx="323244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(</m:t>
                          </m:r>
                        </m:den>
                      </m:f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δ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914400" y="4419720"/>
                  <a:ext cx="39560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ut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e>
                            <m:sub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/>
                              </m:nary>
                            </m:sub>
                          </m:sSub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lg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228600" y="1828800"/>
              <a:ext cx="609480" cy="37339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228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МОЩНОСТЬ ШУМОВ УСИЛЕННОЙ СПОНТАННОЙ ЭМИСС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2286000"/>
            <a:ext cx="7924680" cy="4262400"/>
            <a:chOff x="0" y="2286000"/>
            <a:chExt cx="7924680" cy="4262400"/>
          </a:xfrm>
        </p:grpSpPr>
        <p:sp>
          <p:nvSpPr>
            <p:cNvPr id="274" name=""/>
            <p:cNvSpPr/>
            <p:nvPr/>
          </p:nvSpPr>
          <p:spPr>
            <a:xfrm>
              <a:off x="0" y="2362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6600"/>
                  </a:solidFill>
                  <a:latin typeface="Arial Black"/>
                </a:rPr>
                <a:t>Выход бусте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29718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6600"/>
                  </a:solidFill>
                  <a:latin typeface="Arial Black"/>
                </a:rPr>
                <a:t>Выход ЛО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48769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6600"/>
                  </a:solidFill>
                  <a:latin typeface="Arial Black"/>
                </a:rPr>
                <a:t>Выход ЛО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124080" y="2286000"/>
                  <a:ext cx="441972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E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Ш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3124080" y="2895480"/>
                  <a:ext cx="281952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Ш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3124080" y="3429000"/>
                  <a:ext cx="31244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E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ЭКУ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3124080" y="4114800"/>
                  <a:ext cx="480060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lg</m:t>
                      </m:r>
                      <m:r>
                        <m:t xml:space="preserve">[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0,1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0,1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sup>
                      </m:s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3124080" y="4800600"/>
                  <a:ext cx="28195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ЭКУ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2" name=""/>
            <p:cNvSpPr/>
            <p:nvPr/>
          </p:nvSpPr>
          <p:spPr>
            <a:xfrm>
              <a:off x="3200400" y="5410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 Black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3124080" y="5943600"/>
                  <a:ext cx="3581640" cy="6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SNR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ВЫХ</m:t>
                          </m:r>
                        </m:sub>
                      </m:sSub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Pn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МОЩНОСТЬ ШУМОВ УСИЛЕННОЙ СПОНТАННОЙ ЭМИ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28600" y="1752480"/>
            <a:ext cx="9601200" cy="5108040"/>
            <a:chOff x="228600" y="1752480"/>
            <a:chExt cx="9601200" cy="5108040"/>
          </a:xfrm>
        </p:grpSpPr>
        <p:sp>
          <p:nvSpPr>
            <p:cNvPr id="286" name=""/>
            <p:cNvSpPr/>
            <p:nvPr/>
          </p:nvSpPr>
          <p:spPr>
            <a:xfrm>
              <a:off x="304920" y="2133720"/>
              <a:ext cx="76176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53280" y="2133720"/>
              <a:ext cx="7621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05720" y="2133720"/>
              <a:ext cx="76176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2133720"/>
              <a:ext cx="7621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52680" y="2133720"/>
              <a:ext cx="7621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52480" y="2133720"/>
              <a:ext cx="7621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33720" y="2666880"/>
              <a:ext cx="0" cy="419112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86600" y="2666880"/>
              <a:ext cx="0" cy="419112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81480" y="2666880"/>
              <a:ext cx="0" cy="419112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33920" y="2666880"/>
              <a:ext cx="0" cy="419112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34520" y="2666880"/>
              <a:ext cx="0" cy="4191120"/>
            </a:xfrm>
            <a:prstGeom prst="line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66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14600" y="2362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6748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66680" y="3124080"/>
              <a:ext cx="10670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33720" y="3124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33720" y="3124080"/>
              <a:ext cx="160020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3920" y="312408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62720" y="2362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14800" y="2362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3124080"/>
              <a:ext cx="14475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1480" y="31240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3124080"/>
              <a:ext cx="19051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86600" y="3124080"/>
              <a:ext cx="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6600" y="3124080"/>
              <a:ext cx="144792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34520" y="3124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85800" y="3124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3452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66680" y="6019920"/>
              <a:ext cx="10670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3720" y="58672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33720" y="5867280"/>
              <a:ext cx="16002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33920" y="55627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3920" y="5562720"/>
              <a:ext cx="1447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1480" y="53341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81480" y="5334120"/>
              <a:ext cx="190512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86600" y="50292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86600" y="5029200"/>
              <a:ext cx="1447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5345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47920" y="4191120"/>
              <a:ext cx="7086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66680" y="3124080"/>
              <a:ext cx="74678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838080" y="4800600"/>
              <a:ext cx="769644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4920" y="228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рП-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/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900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/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69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/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5800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/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77320" y="2286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рП-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90720" y="17524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99 к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3828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1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3848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38680" y="18288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1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15200" y="17524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Black"/>
                </a:rPr>
                <a:t>97 к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8600" y="2666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534520" y="2666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6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8600" y="55627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29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71600" y="5334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24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71800" y="51814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17,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19720" y="4952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15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24480" y="46483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12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72400" y="4343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2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53080" y="64008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00"/>
                  </a:solidFill>
                  <a:latin typeface="Arial Black"/>
                </a:rPr>
                <a:t>OSNR=19,1</a:t>
              </a:r>
              <a:r>
                <a:rPr b="0" lang="ru-RU" sz="2400" spc="-1" strike="noStrike">
                  <a:solidFill>
                    <a:srgbClr val="336600"/>
                  </a:solidFill>
                  <a:latin typeface="Arial Black"/>
                </a:rPr>
                <a:t>д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ОПТИЧЕСКИЕ ПОТЕРИ НА ЭК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819520" y="1219320"/>
            <a:ext cx="3270240" cy="685800"/>
            <a:chOff x="2819520" y="1219320"/>
            <a:chExt cx="3270240" cy="685800"/>
          </a:xfrm>
        </p:grpSpPr>
        <p:sp>
          <p:nvSpPr>
            <p:cNvPr id="349" name=""/>
            <p:cNvSpPr/>
            <p:nvPr/>
          </p:nvSpPr>
          <p:spPr>
            <a:xfrm>
              <a:off x="2819520" y="12193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66"/>
                  </a:solidFill>
                  <a:latin typeface="Arial Black"/>
                </a:rPr>
                <a:t>НОРМ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5410080" y="1295280"/>
                  <a:ext cx="679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1" name=""/>
          <p:cNvGrpSpPr/>
          <p:nvPr/>
        </p:nvGrpSpPr>
        <p:grpSpPr>
          <a:xfrm>
            <a:off x="380880" y="2438280"/>
            <a:ext cx="8356680" cy="3121200"/>
            <a:chOff x="380880" y="2438280"/>
            <a:chExt cx="8356680" cy="3121200"/>
          </a:xfrm>
        </p:grpSpPr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380880" y="2743200"/>
                  <a:ext cx="2286000" cy="63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1,3</m:t>
                      </m:r>
                      <m:r>
                        <m:rPr>
                          <m:lit/>
                          <m:nor/>
                        </m:rPr>
                        <m:t xml:space="preserve">мк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3" name=""/>
                <p:cNvSpPr txBox="1"/>
                <p:nvPr/>
              </p:nvSpPr>
              <p:spPr>
                <a:xfrm>
                  <a:off x="3200400" y="2438280"/>
                  <a:ext cx="5537160" cy="13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Н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[</m:t>
                      </m:r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0,2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c</m:t>
                              </m:r>
                            </m:sub>
                          </m:s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]</m:t>
                              </m:r>
                            </m:num>
                            <m:den>
                              <m:r>
                                <m:t xml:space="preserve">L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457200" y="4648320"/>
                  <a:ext cx="243828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55</m:t>
                      </m:r>
                      <m:r>
                        <m:rPr>
                          <m:lit/>
                          <m:nor/>
                        </m:rPr>
                        <m:t xml:space="preserve">мк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5" name=""/>
                <p:cNvSpPr txBox="1"/>
                <p:nvPr/>
              </p:nvSpPr>
              <p:spPr>
                <a:xfrm>
                  <a:off x="3429000" y="4343400"/>
                  <a:ext cx="5067360" cy="12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Н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[</m:t>
                      </m:r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0,1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c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c</m:t>
                              </m:r>
                            </m:sub>
                          </m:s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]</m:t>
                              </m:r>
                            </m:num>
                            <m:den>
                              <m:r>
                                <m:t xml:space="preserve">L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ОПТИЧЕСКИЕ ПОТЕРИ НА ЭК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219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НОРМА </a:t>
            </a:r>
            <a:r>
              <a:rPr b="0" lang="ru-RU" sz="36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А</a:t>
            </a: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143000" y="1981080"/>
            <a:ext cx="7696080" cy="4102200"/>
            <a:chOff x="1143000" y="1981080"/>
            <a:chExt cx="7696080" cy="41022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2133720" y="1981080"/>
                  <a:ext cx="499716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Н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КАБ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Δ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2666880" y="2819520"/>
                  <a:ext cx="370836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КАБ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ЭЗД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ЭЗВ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2286000" y="3657600"/>
                  <a:ext cx="45720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ЭЗД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L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T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1828800" y="4495680"/>
                  <a:ext cx="579132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ЭЗВ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c</m:t>
                          </m:r>
                        </m:sub>
                      </m:sSub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3" name=""/>
                <p:cNvSpPr txBox="1"/>
                <p:nvPr/>
              </p:nvSpPr>
              <p:spPr>
                <a:xfrm>
                  <a:off x="1143000" y="5562720"/>
                  <a:ext cx="91764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"/>
            <p:cNvSpPr/>
            <p:nvPr/>
          </p:nvSpPr>
          <p:spPr>
            <a:xfrm>
              <a:off x="1981080" y="556272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336600"/>
                  </a:solidFill>
                  <a:latin typeface="Arial Black"/>
                </a:rPr>
                <a:t>ПЛОТНОСТЬ ПОВРЕЖДЕНИ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ПОТЕРИ В СРОСТКАХ 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514600" y="1066680"/>
            <a:ext cx="4114800" cy="909720"/>
            <a:chOff x="2514600" y="1066680"/>
            <a:chExt cx="4114800" cy="909720"/>
          </a:xfrm>
        </p:grpSpPr>
        <p:sp>
          <p:nvSpPr>
            <p:cNvPr id="367" name=""/>
            <p:cNvSpPr/>
            <p:nvPr/>
          </p:nvSpPr>
          <p:spPr>
            <a:xfrm>
              <a:off x="2514600" y="1219320"/>
              <a:ext cx="281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66"/>
                  </a:solidFill>
                  <a:latin typeface="Arial Black"/>
                </a:rPr>
                <a:t>НОРМ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5257800" y="1066680"/>
                  <a:ext cx="137160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НС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69" name=""/>
          <p:cNvGraphicFramePr/>
          <p:nvPr/>
        </p:nvGraphicFramePr>
        <p:xfrm>
          <a:off x="-457200" y="2438280"/>
          <a:ext cx="10134720" cy="36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57200" y="2438280"/>
                    <a:ext cx="10134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ОПТИЧЕСКИЕ ПОТЕРИ НА ЭКУ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DWD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18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 Black"/>
              </a:rPr>
              <a:t>НОРМА </a:t>
            </a:r>
            <a:r>
              <a:rPr b="0" lang="ru-RU" sz="36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304920" y="3124080"/>
                <a:ext cx="864540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нм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53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6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7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80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9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4" name=""/>
          <p:cNvGrpSpPr/>
          <p:nvPr/>
        </p:nvGrpSpPr>
        <p:grpSpPr>
          <a:xfrm>
            <a:off x="1219320" y="5181480"/>
            <a:ext cx="6705360" cy="646200"/>
            <a:chOff x="1219320" y="5181480"/>
            <a:chExt cx="6705360" cy="646200"/>
          </a:xfrm>
        </p:grpSpPr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1752480" y="5181480"/>
                  <a:ext cx="617220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ut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КАБ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Δ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6" name=""/>
            <p:cNvSpPr/>
            <p:nvPr/>
          </p:nvSpPr>
          <p:spPr>
            <a:xfrm>
              <a:off x="1219320" y="51814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66"/>
                  </a:solidFill>
                  <a:latin typeface="Arial Black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380880"/>
            <a:ext cx="9144000" cy="1231920"/>
            <a:chOff x="0" y="380880"/>
            <a:chExt cx="9144000" cy="1231920"/>
          </a:xfrm>
        </p:grpSpPr>
        <p:sp>
          <p:nvSpPr>
            <p:cNvPr id="378" name=""/>
            <p:cNvSpPr/>
            <p:nvPr/>
          </p:nvSpPr>
          <p:spPr>
            <a:xfrm>
              <a:off x="0" y="38088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Arial Black"/>
                </a:rPr>
                <a:t>ЛОКАЛЬНАЯ НЕОДНОРОДНОСТЬ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7620120" y="838080"/>
                  <a:ext cx="7747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0" name=""/>
          <p:cNvGrpSpPr/>
          <p:nvPr/>
        </p:nvGrpSpPr>
        <p:grpSpPr>
          <a:xfrm>
            <a:off x="2895480" y="1905120"/>
            <a:ext cx="3352680" cy="642600"/>
            <a:chOff x="2895480" y="1905120"/>
            <a:chExt cx="3352680" cy="642600"/>
          </a:xfrm>
        </p:grpSpPr>
        <p:sp>
          <p:nvSpPr>
            <p:cNvPr id="381" name=""/>
            <p:cNvSpPr/>
            <p:nvPr/>
          </p:nvSpPr>
          <p:spPr>
            <a:xfrm>
              <a:off x="2895480" y="1905120"/>
              <a:ext cx="242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66"/>
                  </a:solidFill>
                  <a:latin typeface="Arial Black"/>
                </a:rPr>
                <a:t>НОРМ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5320800" y="1905120"/>
                  <a:ext cx="9273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ЛН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3" name=""/>
          <p:cNvGrpSpPr/>
          <p:nvPr/>
        </p:nvGrpSpPr>
        <p:grpSpPr>
          <a:xfrm>
            <a:off x="3124080" y="2743200"/>
            <a:ext cx="2819160" cy="642600"/>
            <a:chOff x="3124080" y="2743200"/>
            <a:chExt cx="2819160" cy="6426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3124080" y="2806560"/>
                  <a:ext cx="117432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ЛН</m:t>
                      </m:r>
                      <m:r>
                        <m:t xml:space="preserve">≤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5" name=""/>
            <p:cNvSpPr/>
            <p:nvPr/>
          </p:nvSpPr>
          <p:spPr>
            <a:xfrm>
              <a:off x="4251600" y="2743200"/>
              <a:ext cx="16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66"/>
                  </a:solidFill>
                  <a:latin typeface="Arial Black"/>
                </a:rPr>
                <a:t>0</a:t>
              </a:r>
              <a:r>
                <a:rPr b="0" lang="ru-RU" sz="3600" spc="-1" strike="noStrike">
                  <a:solidFill>
                    <a:srgbClr val="ff0066"/>
                  </a:solidFill>
                  <a:latin typeface="Arial Black"/>
                </a:rPr>
                <a:t>,</a:t>
              </a:r>
              <a:r>
                <a:rPr b="0" lang="ru-RU" sz="3200" spc="-1" strike="noStrike">
                  <a:solidFill>
                    <a:srgbClr val="ff0066"/>
                  </a:solidFill>
                  <a:latin typeface="Arial Black"/>
                </a:rPr>
                <a:t>1д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133720" y="3581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Arial Black"/>
              </a:rPr>
              <a:t>Норма </a:t>
            </a:r>
            <a:r>
              <a:rPr b="0" lang="en-US" sz="3600" spc="-1" strike="noStrike">
                <a:solidFill>
                  <a:srgbClr val="336600"/>
                </a:solidFill>
                <a:latin typeface="Arial Black"/>
              </a:rPr>
              <a:t>D</a:t>
            </a:r>
            <a:r>
              <a:rPr b="0" lang="ru-RU" sz="2800" spc="-1" strike="noStrike">
                <a:solidFill>
                  <a:srgbClr val="336600"/>
                </a:solidFill>
                <a:latin typeface="Arial Black"/>
              </a:rPr>
              <a:t>хд</a:t>
            </a:r>
            <a:r>
              <a:rPr b="0" lang="ru-RU" sz="3600" spc="-1" strike="noStrike">
                <a:solidFill>
                  <a:srgbClr val="336600"/>
                </a:solidFill>
                <a:latin typeface="Arial Black"/>
              </a:rPr>
              <a:t> и </a:t>
            </a:r>
            <a:r>
              <a:rPr b="0" lang="en-US" sz="3600" spc="-1" strike="noStrike">
                <a:solidFill>
                  <a:srgbClr val="336600"/>
                </a:solidFill>
                <a:latin typeface="Arial Black"/>
              </a:rPr>
              <a:t>D</a:t>
            </a:r>
            <a:r>
              <a:rPr b="0" lang="ru-RU" sz="2800" spc="-1" strike="noStrike">
                <a:solidFill>
                  <a:srgbClr val="336600"/>
                </a:solidFill>
                <a:latin typeface="Arial Black"/>
              </a:rPr>
              <a:t>пм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743200" y="4572000"/>
                <a:ext cx="3505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ХД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СР</m:t>
                        </m:r>
                      </m:sub>
                    </m:sSub>
                    <m:r>
                      <m:t xml:space="preserve">Δ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2590920" y="5486400"/>
                <a:ext cx="3733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МД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МД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СР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5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Л И Т Е Р А Т У Р 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80" y="190512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G.655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МСЭ-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8288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и одномодового оптического кабеля с ненулевой смещенной дисперс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3657600"/>
            <a:ext cx="21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Деарт И.Д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Цым А.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65760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ическое нормирование затухания оптических волокон на регенерационных участках ВОСП // Электросвязь. - №3. - 19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ЭЛЕКТРИЧЕСКИЕ ПАРМЕТРЫ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 Э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43600" y="1828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Пересч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04920" y="2514600"/>
            <a:ext cx="7848360" cy="3505320"/>
            <a:chOff x="304920" y="2514600"/>
            <a:chExt cx="7848360" cy="350532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304920" y="2514600"/>
                  <a:ext cx="23619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ИЗ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МОм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к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304920" y="3276720"/>
                  <a:ext cx="22539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ШЛ</m:t>
                          </m:r>
                        </m:sub>
                      </m:sSub>
                      <m:r>
                        <m:t xml:space="preserve">,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Ом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м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304920" y="3962520"/>
                  <a:ext cx="2361960" cy="64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R</m:t>
                      </m:r>
                      <m:r>
                        <m:t xml:space="preserve">,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Ом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км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1143000" y="4800600"/>
                  <a:ext cx="84456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380880" y="5396040"/>
                  <a:ext cx="304812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ИЗШЛ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МОм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к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4572000" y="2590920"/>
                  <a:ext cx="10666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0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4419720" y="3200400"/>
                  <a:ext cx="144756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,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5</m:t>
                          </m:r>
                        </m:num>
                        <m:den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4419720" y="3962520"/>
                  <a:ext cx="14475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num>
                        <m:den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4572000" y="4800600"/>
                  <a:ext cx="91440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4800600" y="5486400"/>
                  <a:ext cx="4572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7315200" y="2514600"/>
                  <a:ext cx="4557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7162920" y="3200400"/>
                  <a:ext cx="7617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7086600" y="3962520"/>
                  <a:ext cx="1066680" cy="58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fPr>
                          <m:type m:val="lin"/>
                        </m:fPr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L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7467480" y="5486400"/>
                  <a:ext cx="4557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ИСХОДНЫЕ ДА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8600" y="2057400"/>
          <a:ext cx="9296280" cy="3505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057400"/>
                    <a:ext cx="9296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286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ФИЗИЧЕСКИЕ ПРЕДЕ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828800" y="1447920"/>
                <a:ext cx="23623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дБ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410080" y="1447920"/>
                <a:ext cx="2210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v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380880" y="2209680"/>
            <a:ext cx="8001000" cy="1673280"/>
            <a:chOff x="380880" y="2209680"/>
            <a:chExt cx="8001000" cy="1673280"/>
          </a:xfrm>
        </p:grpSpPr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380880" y="2209680"/>
                  <a:ext cx="30038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7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lg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914400" y="2819520"/>
                  <a:ext cx="24382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6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lg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914400" y="3352680"/>
                  <a:ext cx="24382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84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lg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"/>
            <p:cNvSpPr/>
            <p:nvPr/>
          </p:nvSpPr>
          <p:spPr>
            <a:xfrm>
              <a:off x="3657600" y="228600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Arial Black"/>
                </a:rPr>
                <a:t>Идеальный прием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57600" y="28195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Arial Black"/>
                </a:rPr>
                <a:t>Фотоди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335268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Arial Black"/>
                </a:rPr>
                <a:t>Приемник с О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04920" y="4038480"/>
            <a:ext cx="8839080" cy="1658880"/>
            <a:chOff x="304920" y="4038480"/>
            <a:chExt cx="8839080" cy="1658880"/>
          </a:xfrm>
        </p:grpSpPr>
        <p:sp>
          <p:nvSpPr>
            <p:cNvPr id="420" name=""/>
            <p:cNvSpPr/>
            <p:nvPr/>
          </p:nvSpPr>
          <p:spPr>
            <a:xfrm>
              <a:off x="38088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ST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533520" y="4572000"/>
                  <a:ext cx="5079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304920" y="5105520"/>
                  <a:ext cx="914400" cy="59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sSub>
                        <m:e>
                          <m:r>
                            <m:t xml:space="preserve">,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К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23" name=""/>
            <p:cNvSpPr/>
            <p:nvPr/>
          </p:nvSpPr>
          <p:spPr>
            <a:xfrm>
              <a:off x="1447920" y="403848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6600"/>
                  </a:solidFill>
                  <a:latin typeface="Arial Black"/>
                </a:rPr>
                <a:t>     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1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4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     16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   64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25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47920" y="457200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6600"/>
                  </a:solidFill>
                  <a:latin typeface="Arial Black"/>
                </a:rPr>
                <a:t>    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-62       -56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    -50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  -44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 -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47920" y="518148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6600"/>
                  </a:solidFill>
                  <a:latin typeface="Arial Black"/>
                </a:rPr>
                <a:t>    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376      347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    320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  290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	</a:t>
              </a:r>
              <a:r>
                <a:rPr b="0" lang="ru-RU" sz="2400" spc="-1" strike="noStrike">
                  <a:solidFill>
                    <a:srgbClr val="ff0066"/>
                  </a:solidFill>
                  <a:latin typeface="Arial Black"/>
                </a:rPr>
                <a:t>26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533520" y="5943600"/>
                <a:ext cx="2286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ГГ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657600" y="5943600"/>
                <a:ext cx="1523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943600" y="5943600"/>
                <a:ext cx="2895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Тбит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57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Т Е Р М И Н 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1676520"/>
            <a:ext cx="9144000" cy="3993480"/>
            <a:chOff x="0" y="1676520"/>
            <a:chExt cx="9144000" cy="3993480"/>
          </a:xfrm>
        </p:grpSpPr>
        <p:sp>
          <p:nvSpPr>
            <p:cNvPr id="57" name=""/>
            <p:cNvSpPr/>
            <p:nvPr/>
          </p:nvSpPr>
          <p:spPr>
            <a:xfrm>
              <a:off x="0" y="167652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6600"/>
                  </a:solidFill>
                  <a:latin typeface="Arial"/>
                </a:rPr>
                <a:t>ВОСП 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1676520"/>
              <a:ext cx="731520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омплекс технических средств, обеспечивающих образования оптического линейного тракта, типовых групповых трактов и каналов транспортной сети связи, а также реализующих технологий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DM, DWDM, PDH, SDH, ATM, IP 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F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47920" y="4343400"/>
              <a:ext cx="7696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57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Т Е Р М И Н 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0" y="167652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ЭКУ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16765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ческая среда передачи между двумя соседними окончаниями участка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0" y="373392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КСР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7339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окупность всех ЭКУ линейного тракта ВОСП, - вся физическая среда передачи между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СТРУКТУРА ВОСП DWD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1905120"/>
            <a:ext cx="8304840" cy="4190760"/>
            <a:chOff x="533520" y="1905120"/>
            <a:chExt cx="8304840" cy="4190760"/>
          </a:xfrm>
        </p:grpSpPr>
        <p:grpSp>
          <p:nvGrpSpPr>
            <p:cNvPr id="67" name=""/>
            <p:cNvGrpSpPr/>
            <p:nvPr/>
          </p:nvGrpSpPr>
          <p:grpSpPr>
            <a:xfrm>
              <a:off x="609480" y="1905120"/>
              <a:ext cx="8228880" cy="4190760"/>
              <a:chOff x="609480" y="1905120"/>
              <a:chExt cx="8228880" cy="4190760"/>
            </a:xfrm>
          </p:grpSpPr>
          <p:sp>
            <p:nvSpPr>
              <p:cNvPr id="68" name=""/>
              <p:cNvSpPr/>
              <p:nvPr/>
            </p:nvSpPr>
            <p:spPr>
              <a:xfrm>
                <a:off x="609480" y="2438280"/>
                <a:ext cx="83772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09480" y="3276360"/>
                <a:ext cx="83772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480" y="5257440"/>
                <a:ext cx="83772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056680" y="5257440"/>
                <a:ext cx="83808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056680" y="3276360"/>
                <a:ext cx="83808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56680" y="2438280"/>
                <a:ext cx="83808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200" y="266688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7200" y="350496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47200" y="548604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28280" y="1905120"/>
                <a:ext cx="1142640" cy="4190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95120" y="2666880"/>
                <a:ext cx="53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95120" y="3504960"/>
                <a:ext cx="53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895120" y="5486040"/>
                <a:ext cx="53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866920" y="1905120"/>
                <a:ext cx="1142640" cy="41907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924320" y="2438280"/>
                <a:ext cx="83772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000280" y="5410080"/>
                <a:ext cx="83808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924320" y="3276360"/>
                <a:ext cx="83772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5028480" y="2438280"/>
                <a:ext cx="380880" cy="380520"/>
                <a:chOff x="5028480" y="2438280"/>
                <a:chExt cx="380880" cy="3805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028480" y="2438280"/>
                  <a:ext cx="380880" cy="3805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5180760" y="2590200"/>
                  <a:ext cx="151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5104440" y="25135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028480" y="2971440"/>
                <a:ext cx="380880" cy="380880"/>
                <a:chOff x="5028480" y="2971440"/>
                <a:chExt cx="3808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028480" y="2971440"/>
                  <a:ext cx="380880" cy="3808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5180760" y="312336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5104440" y="3047400"/>
                  <a:ext cx="1519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028480" y="4571640"/>
                <a:ext cx="380880" cy="380880"/>
                <a:chOff x="5028480" y="4571640"/>
                <a:chExt cx="380880" cy="3808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028480" y="4571640"/>
                  <a:ext cx="380880" cy="3808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5180760" y="472356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V="1">
                  <a:off x="5104440" y="4647600"/>
                  <a:ext cx="15192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028480" y="5181480"/>
                <a:ext cx="380880" cy="380520"/>
                <a:chOff x="5028480" y="5181480"/>
                <a:chExt cx="380880" cy="3805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028480" y="5181480"/>
                  <a:ext cx="380880" cy="3805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5180760" y="5333400"/>
                  <a:ext cx="1519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V="1">
                  <a:off x="5104440" y="52567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4571280" y="266688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1280" y="32000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1280" y="48002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571280" y="541008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09720" y="266688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09720" y="32000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09720" y="48002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09720" y="541008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09920" y="5638680"/>
                <a:ext cx="99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09920" y="3504960"/>
                <a:ext cx="91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09920" y="2666880"/>
                <a:ext cx="91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33520" y="190512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5760" y="190512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57040" y="24382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р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120" y="327636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р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58120" y="52578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р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4960" y="3276360"/>
              <a:ext cx="990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У / О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240" y="3276360"/>
              <a:ext cx="990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ОУ/ С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360" y="20574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 rot="10800000">
                  <a:off x="2895480" y="1981080"/>
                  <a:ext cx="558360" cy="65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 rot="10800000">
                  <a:off x="7162560" y="1981080"/>
                  <a:ext cx="558360" cy="65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523880" y="2133360"/>
                  <a:ext cx="4330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1523880" y="2895480"/>
                  <a:ext cx="4330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1523880" y="4876560"/>
                  <a:ext cx="4330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95480" y="2895480"/>
                  <a:ext cx="526680" cy="56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162560" y="2971800"/>
                  <a:ext cx="526680" cy="56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819160" y="4876560"/>
                  <a:ext cx="685440" cy="65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m</m:t>
                              </m:r>
                            </m:e>
                          </m:ba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7162560" y="5029200"/>
                  <a:ext cx="71100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m</m:t>
                              </m:r>
                            </m:e>
                          </m:ba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75"/>
                            </p:stCondLst>
                            <p:childTnLst>
                              <p:par>
                                <p:cTn id="1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СТЫКИ   ВОСП   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DW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1376280"/>
          <a:ext cx="8458200" cy="494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376280"/>
                    <a:ext cx="84582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75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ЛОЖЕНИЕ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i="1" lang="en-US" sz="4400" spc="-1" strike="noStrike">
                <a:solidFill>
                  <a:srgbClr val="ff0000"/>
                </a:solidFill>
                <a:latin typeface="Arial Black"/>
              </a:rPr>
              <a:t>n</a:t>
            </a:r>
            <a:r>
              <a:rPr b="0" i="1" lang="ru-RU" sz="4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ЛУЧАЙНЫХ ВЕЛИЧ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5105520"/>
            <a:ext cx="9144000" cy="1185840"/>
            <a:chOff x="0" y="5105520"/>
            <a:chExt cx="9144000" cy="1185840"/>
          </a:xfrm>
        </p:grpSpPr>
        <p:sp>
          <p:nvSpPr>
            <p:cNvPr id="134" name=""/>
            <p:cNvSpPr/>
            <p:nvPr/>
          </p:nvSpPr>
          <p:spPr>
            <a:xfrm>
              <a:off x="0" y="5105520"/>
              <a:ext cx="9144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При большом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Arial"/>
                </a:rPr>
                <a:t>n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 закон распределе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- нормальный, СКО 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6553080" y="5562720"/>
                  <a:ext cx="108612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0" y="2057400"/>
            <a:ext cx="8407440" cy="1373760"/>
            <a:chOff x="0" y="2057400"/>
            <a:chExt cx="8407440" cy="1373760"/>
          </a:xfrm>
        </p:grpSpPr>
        <p:sp>
          <p:nvSpPr>
            <p:cNvPr id="137" name=""/>
            <p:cNvSpPr/>
            <p:nvPr/>
          </p:nvSpPr>
          <p:spPr>
            <a:xfrm>
              <a:off x="0" y="2057400"/>
              <a:ext cx="5334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6600"/>
                  </a:solidFill>
                  <a:latin typeface="Arial"/>
                </a:rPr>
                <a:t>Математическое ожидание суммы равно сумме математических ожидани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943600" y="2133720"/>
                  <a:ext cx="246384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М</m:t>
                          </m:r>
                        </m:e>
                        <m:sub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/>
                          </m:nary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m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"/>
          <p:cNvGrpSpPr/>
          <p:nvPr/>
        </p:nvGrpSpPr>
        <p:grpSpPr>
          <a:xfrm>
            <a:off x="0" y="3429000"/>
            <a:ext cx="8458200" cy="1371600"/>
            <a:chOff x="0" y="3429000"/>
            <a:chExt cx="8458200" cy="1371600"/>
          </a:xfrm>
        </p:grpSpPr>
        <p:sp>
          <p:nvSpPr>
            <p:cNvPr id="140" name=""/>
            <p:cNvSpPr/>
            <p:nvPr/>
          </p:nvSpPr>
          <p:spPr>
            <a:xfrm>
              <a:off x="0" y="3733920"/>
              <a:ext cx="533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6600"/>
                  </a:solidFill>
                  <a:latin typeface="Arial"/>
                </a:rPr>
                <a:t>Дисперсия суммы равна сумме дисперси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6095880" y="3429000"/>
                  <a:ext cx="236232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/>
                          </m:nary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/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D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НОРМАЛЬНОЕ РАС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2438280"/>
            <a:ext cx="4419720" cy="2514600"/>
            <a:chOff x="0" y="2438280"/>
            <a:chExt cx="4419720" cy="2514600"/>
          </a:xfrm>
        </p:grpSpPr>
        <p:grpSp>
          <p:nvGrpSpPr>
            <p:cNvPr id="144" name=""/>
            <p:cNvGrpSpPr/>
            <p:nvPr/>
          </p:nvGrpSpPr>
          <p:grpSpPr>
            <a:xfrm>
              <a:off x="304920" y="2438280"/>
              <a:ext cx="4038480" cy="2148120"/>
              <a:chOff x="304920" y="2438280"/>
              <a:chExt cx="4038480" cy="2148120"/>
            </a:xfrm>
          </p:grpSpPr>
          <p:graphicFrame>
            <p:nvGraphicFramePr>
              <p:cNvPr id="145" name=""/>
              <p:cNvGraphicFramePr/>
              <p:nvPr/>
            </p:nvGraphicFramePr>
            <p:xfrm>
              <a:off x="304920" y="2438280"/>
              <a:ext cx="3962160" cy="21481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46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04920" y="2438280"/>
                        <a:ext cx="3962160" cy="214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7" name=""/>
              <p:cNvSpPr/>
              <p:nvPr/>
            </p:nvSpPr>
            <p:spPr>
              <a:xfrm>
                <a:off x="1066680" y="24382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W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590920" y="297180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71800" y="266688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S=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962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0" y="4572000"/>
                  <a:ext cx="6667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4038480" y="4572000"/>
                  <a:ext cx="38124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990720" y="4572000"/>
                  <a:ext cx="6094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  <m:r>
                        <m:t xml:space="preserve">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2971800" y="4572000"/>
                  <a:ext cx="6094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  <m:r>
                        <m:t xml:space="preserve">+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2209680" y="4572000"/>
                  <a:ext cx="222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6" name=""/>
          <p:cNvGrpSpPr/>
          <p:nvPr/>
        </p:nvGrpSpPr>
        <p:grpSpPr>
          <a:xfrm>
            <a:off x="380880" y="5029200"/>
            <a:ext cx="3733920" cy="1206360"/>
            <a:chOff x="380880" y="5029200"/>
            <a:chExt cx="3733920" cy="1206360"/>
          </a:xfrm>
        </p:grpSpPr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380880" y="5029200"/>
                  <a:ext cx="3733920" cy="57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Р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  <m:r>
                        <m:t xml:space="preserve">−</m:t>
                      </m:r>
                      <m:r>
                        <m:t xml:space="preserve">δ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  <m:r>
                        <m:t xml:space="preserve">+</m:t>
                      </m:r>
                      <m:r>
                        <m:t xml:space="preserve">δ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457200" y="5638680"/>
                  <a:ext cx="3537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Р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δ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  <m:r>
                        <m:t xml:space="preserve">+</m:t>
                      </m:r>
                      <m:r>
                        <m:t xml:space="preserve">δ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9" name=""/>
          <p:cNvGrpSpPr/>
          <p:nvPr/>
        </p:nvGrpSpPr>
        <p:grpSpPr>
          <a:xfrm>
            <a:off x="4495680" y="5029200"/>
            <a:ext cx="4419720" cy="1197000"/>
            <a:chOff x="4495680" y="5029200"/>
            <a:chExt cx="4419720" cy="119700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4572000" y="5029200"/>
                  <a:ext cx="434340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Р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δ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δ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97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4495680" y="5638680"/>
                  <a:ext cx="441972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Р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δ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99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2" name=""/>
          <p:cNvGrpSpPr/>
          <p:nvPr/>
        </p:nvGrpSpPr>
        <p:grpSpPr>
          <a:xfrm>
            <a:off x="4800600" y="2438280"/>
            <a:ext cx="4343400" cy="2514600"/>
            <a:chOff x="4800600" y="2438280"/>
            <a:chExt cx="4343400" cy="2514600"/>
          </a:xfrm>
        </p:grpSpPr>
        <p:graphicFrame>
          <p:nvGraphicFramePr>
            <p:cNvPr id="163" name=""/>
            <p:cNvGraphicFramePr/>
            <p:nvPr/>
          </p:nvGraphicFramePr>
          <p:xfrm>
            <a:off x="4876920" y="2438280"/>
            <a:ext cx="4000320" cy="2133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2438280"/>
                      <a:ext cx="4000320" cy="21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4800600" y="4603680"/>
                  <a:ext cx="53352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8686800" y="4648320"/>
                  <a:ext cx="4572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6324480" y="4572000"/>
                  <a:ext cx="222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х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5410080" y="3352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2590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2438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KGLI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8:18:12Z</dcterms:created>
  <dc:creator>TSYM</dc:creator>
  <dc:description/>
  <dc:language>en-US</dc:language>
  <cp:lastModifiedBy>TSIM</cp:lastModifiedBy>
  <dcterms:modified xsi:type="dcterms:W3CDTF">2004-12-06T08:28:09Z</dcterms:modified>
  <cp:revision>52</cp:revision>
  <dc:subject/>
  <dc:title>Заголовок слайда отсутствует</dc:title>
</cp:coreProperties>
</file>