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F5A-EBE2-46F7-9D94-6457CE90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E54-135B-4C62-ADC2-DA4C32F6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3FF-DC6B-434D-9484-1B72DEF2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3AD-4A2D-4042-85E5-4138B0C6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8BE9-4832-4004-A842-2B5FCBA6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6132-D03C-44C1-B92F-BA2A27AC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9620-0E9E-40E3-B9A6-9433F207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EFF5-9E2C-4967-A0A1-0C7EDFDB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CCEB-8E56-47EC-8F10-C97B818D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626A-3930-4885-B5A2-1F7D3590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2CF5-6D50-4796-BB08-804A1090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4FA-FE6B-4445-B868-961C4AE7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20C6-A071-48BA-96B8-7939F407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778F-1F97-4285-9563-E4725DD5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7897-339D-4502-8B23-C69090D4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3463-D875-423D-A7A0-B0B07D25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B75D-C916-4339-B781-E97A78B0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4077-E7BC-4A80-AC71-042F5AF9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F38B-6C00-4F82-9824-8829A44A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EBA-AAAA-4DCF-8B9E-9E73CD9D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475-8E13-437E-9BFF-14B6967A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C43-C390-4C24-8BFE-4BC4A826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80A-E11E-41C6-B4F4-F27AA8C0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2BD-B2B4-4DF7-B62F-2D61584D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AA84-505B-4D81-9B77-E6374129DEA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82CD-E02C-436A-AD72-FC61BE4F290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work Simulato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терфейс взаимо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3374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уктура пакето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s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332000" y="2781360"/>
            <a:ext cx="6337080" cy="2808360"/>
            <a:chOff x="1332000" y="2781360"/>
            <a:chExt cx="6337080" cy="2808360"/>
          </a:xfrm>
        </p:grpSpPr>
        <p:sp>
          <p:nvSpPr>
            <p:cNvPr id="114" name=""/>
            <p:cNvSpPr/>
            <p:nvPr/>
          </p:nvSpPr>
          <p:spPr>
            <a:xfrm>
              <a:off x="3645360" y="2781360"/>
              <a:ext cx="1734840" cy="74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92929"/>
                  </a:solidFill>
                  <a:latin typeface="Arial"/>
                </a:rPr>
                <a:t>Имитация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32000" y="5028120"/>
              <a:ext cx="905400" cy="5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92929"/>
                  </a:solidFill>
                  <a:latin typeface="Arial"/>
                </a:rPr>
                <a:t>Tcl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89920" y="5028120"/>
              <a:ext cx="905400" cy="5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92929"/>
                  </a:solidFill>
                  <a:latin typeface="Arial"/>
                </a:rPr>
                <a:t>Tk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47840" y="5028120"/>
              <a:ext cx="905040" cy="5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92929"/>
                  </a:solidFill>
                  <a:latin typeface="Arial"/>
                </a:rPr>
                <a:t>OTcl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63680" y="5028120"/>
              <a:ext cx="905400" cy="5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92929"/>
                  </a:solidFill>
                  <a:latin typeface="Arial"/>
                </a:rPr>
                <a:t>Ns2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05760" y="5028120"/>
              <a:ext cx="905040" cy="5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92929"/>
                  </a:solidFill>
                  <a:latin typeface="Arial"/>
                </a:rPr>
                <a:t>TclCl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784520" y="3530160"/>
              <a:ext cx="2715480" cy="149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142440" y="3530160"/>
              <a:ext cx="1357920" cy="149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500360" y="3530160"/>
              <a:ext cx="0" cy="149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4500360" y="3530160"/>
              <a:ext cx="1357920" cy="149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4500360" y="3530160"/>
              <a:ext cx="2715840" cy="149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8166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полнительные возмож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Математическая поддержк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создание различного рода трафика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Модель ошибок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моделирование ошибок на канальном уровне 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здание сцена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Сетевая топологи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Модель трафик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Генерация тест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Сетевая динамик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тевая топ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редопределенная сетевая топологи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(вручную или стандартные библиотеки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Автоматически генерируемая сетевая топологи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T-ITM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дель траф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Эмпирические данны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Аналитическая модель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Случайным образом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енерация те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Система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TRESS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для упрощения поиска необходимого набора условий проведения имитационного эксперимент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посылки создани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s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Стремительный рост сети Интернет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Стремительный рост количества новых протокол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тсутствие стандартного общедоступного сетевого имитатора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создани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s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1996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год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DARPA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начинает разработку проект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VINT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(Virtual InterNetwork Testbed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Участники: USC/ISI, Xerox PARC, LBNL и UC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just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На сегодняшний день основными спонсорами проекта являются DARPA, NSF и ACIR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 к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s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Стоимость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Контроль над состоянием тестировани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ремя, необходимое для конфигурации и проведения тестировани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Сложность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недрение новых элементов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s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Использование в процессе имитации большого числа протоколов, таких как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Pv4, IPv6, TCP, UDP, HTTP, MPLS, OSPF, RSVP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 протоколы беспроводной связи и др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s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Использование в процессе имитации большого числа моделей трафика, таких как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eb Traffic, ABR, CBR, VBR, UBR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и др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еализация семейства дисциплин обслуживания: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D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QF, CBQ, SFQ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и др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s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Средство создания моделируемой топологи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Средство наглядного представления имитаци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тсутствие ошибок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авнительная табл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7138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s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Использование двух языков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Tcl (Object oriented Tool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mmand Language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4:38:27Z</dcterms:created>
  <dc:creator>Чащин А.</dc:creator>
  <dc:description/>
  <dc:language>en-US</dc:language>
  <cp:lastModifiedBy>Чащин А.</cp:lastModifiedBy>
  <dcterms:modified xsi:type="dcterms:W3CDTF">2004-10-25T00:21:04Z</dcterms:modified>
  <cp:revision>9</cp:revision>
  <dc:subject/>
  <dc:title>Network Simulator 2</dc:title>
</cp:coreProperties>
</file>