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72AE-336F-41AF-B418-0FD228E832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лекции: Технологии текстового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F80-3BA0-4985-A6A6-FE96AF89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710-E2B9-4C08-91B6-A76DC80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DCE-0EFF-49F1-B1C7-2800EDAC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94A-D010-4CEF-A4EB-1AA8E4E9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4F90-8733-4642-AC77-403A0BC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CF3C-E9FE-49BB-A137-B4C832E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027-392C-46A5-BE3B-EE7176E3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DFB6-D9F6-48C4-ADFD-E47CAC45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B24D-367B-43A5-BEB2-A98BBBE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1C4D-629E-49DD-907A-CE652912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8C41-47F4-4F75-BF9A-F791102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765-E4A0-4224-B292-99873185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AB9-5ED3-4556-A7BE-FB8C5A35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A038-E86B-440A-859A-552299C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17E6-0D8D-4CB9-87DA-D1E11CD5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9E34-B743-48AE-84CC-5E4CB21D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783-EB26-4A2C-AC04-16F13630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420-EDC8-43BE-9B97-C41234A1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2E0-AA3A-4366-B33B-DD1C316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A9A-E52C-48BB-B63C-3587E99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450-7D56-4A0A-A384-E139DFC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082-4D8D-4197-8F28-A866EC9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D67-6737-4BC7-BE79-23E587ED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4723-04A3-4934-9458-6EEBB2F2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0E69-9A14-4AB2-A973-E80FCDC614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FD8B-D37C-4744-9865-CEBE26991D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139840"/>
            <a:ext cx="6400800" cy="2565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истемы дистанционного обучен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ежимы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0160" y="1483920"/>
            <a:ext cx="83325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стемах обучения в режим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-line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радиционно используются три модели обуч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граммируемые к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логовые видеоконферен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популярная модель обучения в режим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-line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программируемые кур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6480" y="259920"/>
            <a:ext cx="68709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Российские особенности Д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0840" y="907920"/>
            <a:ext cx="85248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Текущая ситуация на российском рынке ДО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характеризуется многообразием технологических решений и отсутствием крупных поставщиков готовых электронных курсов Д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Типовая система ДО обеспечивае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мещение материалов курсов в Се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сурса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гистрацию обучаемого в режим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хождение курса, включая оффлайновую работу с материалом и онлайновое общение с преподавател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ку знаний, тестирование учащихся в процессе обучения, сертификацию учащихся по окончании курса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20160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Российские особенности Д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7840" y="1052280"/>
            <a:ext cx="896616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Полноценная система ДО должна иметь возможност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представления информации различных типов объектов мультимеди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афика, включая трехмерну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има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удио- и видеопрезент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Команда по разработке учебного курса, как правило, включает три группы специалист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предметной области – носители знаний по учебному курсу, который переводится в форм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-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переводу материалов учебного курса в онлайновую форм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област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технолог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720" y="64800"/>
            <a:ext cx="82803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Характерные черты Д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9800" y="1052640"/>
            <a:ext cx="8592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.о. дистанционное обучение от традиционных форм обучения отличают следующие характерные черт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Гибкость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озможность заниматься в удобное для себя время, в удобном месте и темпе. Нерегламентированный отрезок времени для освоения дисциплины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Модульность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озможность из набора независимых учебных курсов - модулей формировать учебный план, отвечающий индивидуальным или групповым потребностям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араллельност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Параллельное с профессиональной деятельностью обучение, т.е. без отрыва от производ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6400" y="117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Характерные черты Д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Охват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Одновременное обращение ко многим источникам учебной информации (электронным библиотекам, банкам данных, базам знаний и т.д.) большого количества обучающихся. Общение через сети связи друг с другом и с преподавателями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Экономичность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Эффективное использование учебных площадей, технических средств, транспортных средств, концентрированное и унифицированное представление учебной информации и мультидоступ к ней снижает затраты на подготовку специалистов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Технологичность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спользование в образовательном процессе новейших достижений информационных и телекоммуникационных технологий, способствующих продвижению человека в мировое постиндустриальное информационное пространство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720" y="64800"/>
            <a:ext cx="82803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Характерные черты Д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932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Социальное равноправие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авные возможности получения образования независимо от места проживания, состояния здоровья, элитарности и материальной обеспеченности обучаемого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Интернациональность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Экспорт и импорт мировых достижений на рынке образовательных услуг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Новая роль преподавателя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ДО расширяет и обновляет роль преподавателя, который должен координировать познавательный процесс, постоянно усовершенствовать преподаваемые им курсы, повышать творческую активность и квалификацию в соответствии с нововведениями и инновация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8160" y="65160"/>
            <a:ext cx="82821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истанционное бизнес– образование на основе Интерн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3440" y="1412640"/>
            <a:ext cx="8099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ающее значение для реализации системы бизнес – образования имеют следующие полож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Цели, учебный план, структура образовательной программы должны отражать потребность в профессионалах  и быть направлены на обучение будущих специалистов умению действовать в постоянно меняющихся услови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489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истанционное бизнес– образование на основе Интерн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7985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Бизнес-образование предусматривает равновесия между теорией и практикой: оно включает научную теорию и учит пониманию того, как она может быть применена на практи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Территориальная разбросанность слушателей, а также необходимость совмещения обучения с производственной деятельностью требует использования современных дистанционных методов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402840"/>
            <a:ext cx="7489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Цели дистанционного бизнес- образова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еспечение возможности сотрудникам и менеджерам банков и других финансовых организаций и предприятий поднять уровень профессиональных знаний и навык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здание непрерывной системы образования путем совмещения дистанционного и очного обучения, а также стажировок и обучения без отрыва от производст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недрение системы ДО, охватывающей все управленческие и финансовые аспекты деятельности организ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" y="117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ормирование системы дистанционного бизнес - образов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работка учебных модулей, служащих основой для програм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ор и внедрение программных продуктов, а также технического обеспечения, необходимого для проведения дистанционных форм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готовка преподавателей – тьюторов, владеющих методикой дистанционного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станционное обучение групп специалистов с помощью подготовленных преподавателями модулей через информационные сети под их руководств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870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Comic Sans MS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9720" y="1436760"/>
            <a:ext cx="769608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новные понятия и обзор рынка Д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Характерные черты Д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истанционное бизнес-образование на основе Интерн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новные принципы Д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истема организации процесса ДО «Промете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" y="117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Формирование системы дистанционного бизнес - образования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чное обучение специалистов и преподавателей, включая изучение практики работы финансовых организаций с использованием разработанных моду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жировка специалистов в ведущих банках и финансовых компаниях по индивидуальным программа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воение слушателями полученных знаний на рабочем месте в ходе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8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Основные принципы дистанционного обуч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1720" y="1483920"/>
            <a:ext cx="863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гуманистичности обуч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приоритетности педагогического подхода при проектировании образовательного процесса в СД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педагогической целесообразности применения новых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выбора содержания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обеспечения безопасности информации, циркулирующей в СД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тартового уровня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ответствия технологий обуч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мобильности обуч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не противоречия ДО существующим формам образова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Система организации ДО «Промете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2360" y="1339920"/>
            <a:ext cx="8352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Назначение системы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истема разработана для организации полноценного процесса дистанционного обучения и независимой проверки знаний, рассчитана на большие потоки слуша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Состоит из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оненты организации учебного проце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поненты управления учебным процессом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Система используе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ля проведения обучения и проверки знаний в корпоративных сетях и сети Интерн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качестве дополнительного средства для традиционных форм обу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Система организации ДО «Промете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В системе реализованы следующие автоматизированные функ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правление учебным процесс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ределение прав доступа к образовательным ресурсам и средствам управления систем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граничение взаимодействия участник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дение журналов активности пользователей учебного комплек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учение и оценка знаний в среде Интернет, в корпоративных и локальных сетя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4898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Система организации ДО «Промете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56764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СДО «Прометей» позволяет решать следующие задач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ация проверки знаний через Интернет, в корпоративных и локальных сет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ация учебного процесса с различной степенью соответствия классической модели университетского образования. При этом отдельные этапы учебного процесса и элементы модели могут оставаться незадействованны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здание распределенной образовательной се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08360" y="114120"/>
            <a:ext cx="8425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Структура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6720" y="981000"/>
            <a:ext cx="835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3366cc"/>
                </a:solidFill>
                <a:latin typeface="Comic Sans MS"/>
              </a:rPr>
              <a:t>Система «Прометей» содержит следующие подсистемы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егистраци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заказ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латежей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управления группам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библиотеки учебных материал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ендарного план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естирования (оценки учебных достижений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мена информацией (средства общения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дминистрирования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ультимедиа-сервер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отчет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изайнер тест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ерфейс пользовател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360" y="114120"/>
            <a:ext cx="8425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Структура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181080" y="90792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регистраци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зволяет слушателям и кандидатам просматривать списки учебных курсов, подробную информацию по предлагаемым курсам и программам обучения, формировать заказ («корзину»), вводить свои персональные данные и отправлять заказ на обработку. Заказанные курсы можно удалять из корзины до подтверждения зака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заказо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зволяет организатору просматривать информацию о заказе, редактировать или удалять его, просматривать график поступления платежей, связанных с заказом, а также зачислять слушателей в групп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платеже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зволяет организатору регистрировать и обрабатывать поступающие платежные документы, распределять платежи между заказами и отслеживать график поступления платеж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08360" y="114120"/>
            <a:ext cx="8425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Структура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181080" y="907920"/>
            <a:ext cx="8856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Подсистема управления группа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зволяет объединять слушателей в группы, закреплять за группами тьюторов (преподавателей) и выполнять административные операции на уровне групп, что существенно облегчает управление учебным процессом, в который вовлечены большие потоки слушател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Подсистема библиотек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зволяет хранить в системе «Прометей» учебные пособия в любом файловом формате, закреплять их за определенными курсами или делать общедоступными. Подсистема библиотеки разграничивает доступ участников учебного процесса и, кроме того, собирает статистику обращений слуша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Подсистема календарного план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зволяет создавать план-график изучения курса, состоящий из перечня мероприятий. Каждому мероприятию ставятся в соответствие сроки проведения, тип, возможность оценки и другие параметры. Допускается корректировка календарного плана тьютором для каждого слушателя в отдельности: добавление мероприятия или удаление ранее добавленного мероприятия, а также изменение сроков мероприяти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08360" y="114120"/>
            <a:ext cx="8425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Структура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181080" y="9806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тестирования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ализует проверку учебных достижений слушателей. Учебные достижения слушателей оцениваются в режиме самопроверки или экзамена. Подсистема тестирования подсчитывает набранный балл и выдает отчет о результат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обмена информацией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еспечивает общение между участниками учебного процесса при помощи следующих средств: форума, чата, почтовой рассылки, доски объявлений, обмена фай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3366cc"/>
                </a:solidFill>
                <a:latin typeface="Comic Sans MS"/>
              </a:rPr>
              <a:t>Подсистема администрирования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втоматизирует создание и сопровождение объектов системы, таких, как курсы, программы обучения, слушатели, персонал, форумы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08360" y="114120"/>
            <a:ext cx="8425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Структура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181080" y="1052640"/>
            <a:ext cx="8856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Мультимедиа-серве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озволяет передавать по сети потоковое видео/аудио в реальном времени или по запросу слушателя, а также осуществлять показ презентац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Подсистема отчет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позволяет получать статистику по учебному процессу в виде специализированных отче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Дизайнер тестов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ставляет собой средство создания и редактирования те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Интерфейс пользовател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ивает взаимодействие пользователей с сервером учебного комплекса посредством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браузера. Каждому участнику учебного процесса доступны только те функции системы, на которые у него есть права. Кроме того, интерфейс пользователя обеспечивает интеграцию подсистем и доступ участников учебного процесса к подсистем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номочия определяются ролью участника (администратор, организатор, тьютор, слушатель)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Потребность в дистанционном обучен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709640"/>
            <a:ext cx="835344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ины, вследствие которых традиционные формы обуч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ановятся сдерживающим фактором подготовки и повыш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валификации специалист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граниченность пропускной способности учебных семинаров и кур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твлечение сотрудников предприятий от основной деятельности на период обуч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географическая удаленность регионов от центра и рост затрат на командировки специалис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обходимость периодического обновления знаний специалистов предприят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намичность нормативно-правового реформирования промышленной и финансовой сфе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108360" y="126792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3366cc"/>
                </a:solidFill>
                <a:latin typeface="Comic Sans MS"/>
              </a:rPr>
              <a:t>Работа системы «Прометей», как и организация учебного процесс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построена н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бъектах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Объекты используются для представления в системе заказов, платежей, курсов, программ обучения, учебных материалов, персонала (администраторов, организаторов, тьюторов), слушателей, форум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3366cc"/>
                </a:solidFill>
                <a:latin typeface="Comic Sans MS"/>
              </a:rPr>
              <a:t>Доступ к объектам систем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хранимым в базе данных, реализуется посредством пользовательского интерфейс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181440" y="119664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cc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Функционирование систем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основано на взаимодействии объектов и изменении свойств объектов в результате действий пользовател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азовым объектом, участвующим в большинстве взаимодействий, считается 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курс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курсом могут быть связаны учебные материалы (пособия, учебники), календарный план (мероприятия), форумы, группы слушателей, тесты, задания, аудио- и видеоконференции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08360" y="126792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35280" y="1268280"/>
          <a:ext cx="576108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76108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истеме «Прометей» существует две базов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тегории участников учебного процесса, и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ьзователей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ушате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сонал систем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Слушате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— это пользователи, которые изуча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енный курс, тестируются либо проходя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ттестацию. При этом они консультируются 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ьюторов, выполняют домашние задания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К персоналу системы относя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дминистра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рганиза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ьютор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Администратор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ся пользователи, в обязанности которых входит управление программным комплексом «Прометей», определение ролей участников и ответственность за безопасность. Администраторы размещают учебные курсы и программы обучения, тематические материалы в библиотеке, а также решают ряд других задач, влияющих на  функционирование системы в цел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108360" y="126792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Организатор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сотрудники электронного деканата. В их обязанности входит прием и обработка заявок на обучение, контроль оплаты, формирование учебных групп, создание календарных планов и курирование работы тьюторов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оме того, они разрешают организационные вопросы взаимодействия со слушател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3366cc"/>
                </a:solidFill>
                <a:latin typeface="Comic Sans MS"/>
              </a:rPr>
              <a:t>Тьютор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преподаватели) контролируют усвоение слушателями материалов курса, консультируют слушателей, отслеживают выполнение контрольных мероприятий, тестовых и дополнительных заданий, создают тесты, выдают допуски, выставляют оцен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360" y="115560"/>
            <a:ext cx="84247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Функционирование системы ДО «Прометей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108360" y="126792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каждой категории участников учебного процесса определены свои прав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Администратору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решается добавлять в систему курсы, а также сопутствующие объекты (к примеру, учебные материа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Организат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оздает календарный план для курса, работает с подсистемой платежей, зачисляет слушателей в группы, курирует работу тьютор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3366cc"/>
                </a:solidFill>
                <a:latin typeface="Comic Sans MS"/>
              </a:rPr>
              <a:t>Тьютор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ует не с курсом напрямую, а с определенной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группой слушателе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изучающих курс. Тьютор не может напрямую влиять на объекты курсов, но он влияет на процесс изучения курсов слушателями. К примеру, тьютору разрешается частично изменять и дополнять календарные планы отдельных слушателей из назначенной ему групп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361440"/>
            <a:ext cx="687060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истанционное обу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193680" y="1184400"/>
            <a:ext cx="867096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Дистанционное обучение (Д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комплекс образовательных услуг (доставка учебного материала, его самостоятельное изучение, диалоговый обмен между преподавателем и обучаемым, контроль и проверка результатов обучения), предоставляемых с помощью специализированной информационной образовательной среды, базирующейся на средствах обмена учебной информацией на расстоянии (компьютерная сеть, почта телефон, факс и т.д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истанционное обу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119240"/>
            <a:ext cx="86187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Дистанционное обучение позволяе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ширить географию пользователей, тематический диапазон преподаваемых курсов и их каче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ократить время обучения благодаря быстроте коммуникаций и использованию всех современных форм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траты на эксплуатацию системы значительно меньше затрат на традиционное образ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54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Дистанционное обуч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Средства технологической поддержки дистанционного обуч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ейс-обучение (комплект учебно-методических материал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В - технологии (телевизионные лекци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Т – технологии (использование широких возможностей Интернет – технологий и средств мультимеди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ынок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75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Рынок ДО включает следующие сектор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рпоратив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ысшее и среднее образ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осударствен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Системы ДО на российском корпоративном рынке используются для проведе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профессионального обучения специалистов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 новым продуктам и услуга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 обслуживанию и ремонту сложной техн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 работе с программными проду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 финансовым операциям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ынок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9800" y="1483920"/>
            <a:ext cx="8475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В результате внедрения корпоративной системы ДО обеспечиваю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начительная экономия времени и средст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доставление возможности обучения большему количеству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прерывность обу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ниверсальный доступ к учебной системе через браузе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зможность обучения в любое время, в любом месте за счет универсального досту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cc"/>
                </a:solidFill>
                <a:latin typeface="Comic Sans MS"/>
              </a:rPr>
              <a:t>Режимы дистанционного обучен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9800" y="1483920"/>
            <a:ext cx="8475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3366cc"/>
                </a:solidFill>
                <a:latin typeface="Comic Sans MS"/>
              </a:rPr>
              <a:t>Интернет - обучение можно проводить в различных режим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режиме 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-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режиме 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f-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мешанном режим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Comic Sans MS"/>
              </a:rPr>
              <a:t>Обучение в режиме о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n-line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дразумевает синхронные, проходящие по расписанию лекции и семина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cc"/>
                </a:solidFill>
                <a:latin typeface="Comic Sans MS"/>
              </a:rPr>
              <a:t>Обучение в режиме о</a:t>
            </a:r>
            <a:r>
              <a:rPr b="0" i="1" lang="en-US" sz="2800" spc="-1" strike="noStrike">
                <a:solidFill>
                  <a:srgbClr val="3366cc"/>
                </a:solidFill>
                <a:latin typeface="Comic Sans MS"/>
              </a:rPr>
              <a:t>ff-line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едполагает асинхронные, проводимые по запросу пользователя Интернет - зан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8:03:29Z</dcterms:created>
  <dc:creator>Goroh</dc:creator>
  <dc:description/>
  <dc:language>en-US</dc:language>
  <cp:lastModifiedBy>Goroh</cp:lastModifiedBy>
  <dcterms:modified xsi:type="dcterms:W3CDTF">2004-11-21T23:51:57Z</dcterms:modified>
  <cp:revision>51</cp:revision>
  <dc:subject/>
  <dc:title>Информационные системы</dc:title>
</cp:coreProperties>
</file>