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1E5-957F-4B17-AF94-5EE11A53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BFB-5220-4768-A648-29800AA1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7B5-51F7-4AC7-A834-28D0BDBC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E44-1739-4004-8650-BB38A9E4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7BA-0DA8-4EDA-9449-1B179549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2E0-CBDE-44CA-AC61-072FC6C3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77A-5E10-430A-8221-8EC22153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D01-3956-4C1A-ACA2-43551DB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EBD-B960-48E9-BA88-95E518A2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492-0611-4EDE-9414-95AF8CB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430-119D-4D0E-9A5D-A1FDF999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B25C-FBDC-4230-AF13-594324D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3DC7-8F1A-449E-A418-289304EEC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tp://ftp.tigr.org/pub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mit.edu/site/aboutsite.html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w3.org/" TargetMode="External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Protocols/Activity.html" TargetMode="Externa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Protocols/Activity.html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_internetv2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52992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Основные приложения сети </a:t>
            </a:r>
            <a:br>
              <a:rPr sz="6000"/>
            </a:b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Интерн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3E2-22FF-4BAE-95D8-EFAD2F9349C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Анонимные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TP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сай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tp" descr="Anonymous FTP 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905120"/>
            <a:ext cx="3433680" cy="1144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3000" y="38098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me: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nony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ssword: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aaa@bbb.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882-BBE9-47CC-B479-6777D7AD5F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RIVIAL FTP              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TFT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 UDP (port 69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495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RFC 13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E5B-3376-4522-85F7-538F8119FB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сновные приложения сети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057400"/>
            <a:ext cx="365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TELN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W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C1A-FB06-4C67-9464-7BA64BC3A72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685800"/>
            <a:ext cx="914400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TELNE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RFC 85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427-6BD8-434C-8F5B-58DB08DEB4F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Жесткая структура распределения терминалов до создан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641600"/>
            <a:ext cx="1295640" cy="6426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981080"/>
            <a:ext cx="1295280" cy="6426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62320" y="2320920"/>
            <a:ext cx="1295280" cy="6426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00240"/>
            <a:ext cx="129564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340080"/>
            <a:ext cx="129528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679920"/>
            <a:ext cx="129528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359240"/>
            <a:ext cx="12956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4699080"/>
            <a:ext cx="12952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5038560"/>
            <a:ext cx="12952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рмина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95960" y="1641600"/>
            <a:ext cx="3276720" cy="1177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5960" y="4359240"/>
            <a:ext cx="3276720" cy="12034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95960" y="3000240"/>
            <a:ext cx="3276720" cy="1190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828800"/>
            <a:ext cx="361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3200400"/>
            <a:ext cx="361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361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3505320"/>
            <a:ext cx="26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876920"/>
            <a:ext cx="26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2133720"/>
            <a:ext cx="26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8862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518148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514600"/>
            <a:ext cx="163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95960" y="1981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эйнфрей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95960" y="4648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эйнфрей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5960" y="334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эйнфрей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C98-24D7-4F5B-9C01-73AFF9DB92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14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482840"/>
            <a:ext cx="30481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клад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660760"/>
            <a:ext cx="30481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Сете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2071800"/>
            <a:ext cx="30481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Транспор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189240"/>
            <a:ext cx="30481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Физ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173664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1432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EL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4067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20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CP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порт 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234648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FD2-FC82-45F5-A39E-3963EF97D0A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ежимы работы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el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лудуплекс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символь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строч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Локаль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9F2-A788-4D7B-B1D8-1D9D477DBE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ELNET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 концепция виртуального терминал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(NV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95960" y="1785960"/>
            <a:ext cx="3276720" cy="1177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95960" y="4503600"/>
            <a:ext cx="3276720" cy="120348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95960" y="3144960"/>
            <a:ext cx="3276720" cy="1190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95960" y="212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эйнфрей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95960" y="479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эйнфрей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95960" y="34844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эйнфрей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144960"/>
            <a:ext cx="1790640" cy="11905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44960"/>
            <a:ext cx="17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ст 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3713040"/>
            <a:ext cx="9525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476440" y="2362320"/>
            <a:ext cx="2819520" cy="11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76440" y="3541680"/>
            <a:ext cx="2819520" cy="17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76440" y="3541680"/>
            <a:ext cx="2819520" cy="156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A6A-08C7-46A0-AEBD-5268C0AB0F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Этапы применения протокол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EL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43828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запуск клиент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EL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ввод имени пользователя и паро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завершение сеан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DCD-5F56-46EB-886C-46277160AD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абота с другими службами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CP/IP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через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TEL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905120"/>
          <a:ext cx="7924680" cy="265248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M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Who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Fin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T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85800" y="4876920"/>
            <a:ext cx="79246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анда подключения к служб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telnet </a:t>
            </a:r>
            <a:r>
              <a:rPr b="1" lang="ru-RU" sz="3200" spc="-1" strike="noStrike">
                <a:solidFill>
                  <a:srgbClr val="3333cc"/>
                </a:solidFill>
                <a:latin typeface="Courier New"/>
              </a:rPr>
              <a:t>хост 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203-3EF8-41EE-B694-E4FADF1F58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сновные приложения сети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2057400"/>
            <a:ext cx="365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FT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TELN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W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4B6-E7D4-43B6-BECF-716B6EE8DB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сновные приложения сети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057400"/>
            <a:ext cx="365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TELN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E-MA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W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3AF-3FD2-4895-9A5D-3C5D7AC4498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Стандарт для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06540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FC 2821 – SMTP (Simple Mail Transfer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FC 2822 –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формат сооб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1337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C15-8383-446A-97AA-5E73A81BC0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1828800"/>
            <a:ext cx="3276720" cy="221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SMT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1828800"/>
            <a:ext cx="3276720" cy="221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X.4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IT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23749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6240" y="26668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FAE-6179-4A68-8DB7-351FC8EA9CE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09480"/>
            <a:ext cx="914400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ultipurpose Internet Mail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MI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RFC 2045 - 204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1E0-65F2-4644-9BB6-5D82913CB03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омпоненты систем электронной поч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74320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ьзовательский агет (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r Agent – 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гент передачи сообщений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Message Transfer Agent – M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Хранилище сообщений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Message Store –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E70-C7A7-48B8-A7E4-08B566D4B1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абот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-mail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напрямую между двумя хос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e-mail02" descr="Figure 2. Message Transfer Agents Residing on Two Hosts"/>
          <p:cNvPicPr/>
          <p:nvPr/>
        </p:nvPicPr>
        <p:blipFill>
          <a:blip r:embed="rId2"/>
          <a:stretch/>
        </p:blipFill>
        <p:spPr>
          <a:xfrm>
            <a:off x="1411200" y="2209680"/>
            <a:ext cx="6321600" cy="277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044-3E05-4E0E-B6F3-18A492DF25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Использование почтовых шлюз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362320"/>
            <a:ext cx="1981080" cy="228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2362320"/>
            <a:ext cx="1981080" cy="228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2362320"/>
            <a:ext cx="1981080" cy="2286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81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ст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1905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ст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1905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лю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2666880"/>
            <a:ext cx="685800" cy="459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2666880"/>
            <a:ext cx="685800" cy="459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3314880"/>
            <a:ext cx="685800" cy="459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3314880"/>
            <a:ext cx="685800" cy="459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52960" y="2438280"/>
            <a:ext cx="1028520" cy="152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52960" y="2590920"/>
            <a:ext cx="1028520" cy="1522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52960" y="2743200"/>
            <a:ext cx="1028520" cy="1522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52960" y="2895480"/>
            <a:ext cx="1028520" cy="152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4100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65160" y="3149640"/>
            <a:ext cx="0" cy="209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65160" y="5245200"/>
            <a:ext cx="209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962520" y="3809520"/>
            <a:ext cx="0" cy="143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962520" y="259056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59092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181480" y="2588760"/>
            <a:ext cx="176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57880" y="2589120"/>
            <a:ext cx="0" cy="72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809880"/>
            <a:ext cx="0" cy="143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57880" y="5245200"/>
            <a:ext cx="209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451640" y="3162240"/>
            <a:ext cx="0" cy="208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65160" y="4878360"/>
            <a:ext cx="20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54640" y="4878360"/>
            <a:ext cx="20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P4-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181480" y="19810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1432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фер сообщ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A93-1833-40E5-95BE-44A3469469C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спользование почтовых серверов для получения и отправки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e-mail03" descr="Figure 3. Relay Hosts"/>
          <p:cNvPicPr/>
          <p:nvPr/>
        </p:nvPicPr>
        <p:blipFill>
          <a:blip r:embed="rId2"/>
          <a:stretch/>
        </p:blipFill>
        <p:spPr>
          <a:xfrm>
            <a:off x="1285920" y="1752480"/>
            <a:ext cx="6572160" cy="436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036-2409-4CC9-9DAC-ABCE2A71670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609480"/>
            <a:ext cx="8229600" cy="48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Post Office Protoc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PO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RFC 1939 (POP v3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DAA-C2C8-487C-BF11-0295A225521C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57200" y="609480"/>
            <a:ext cx="822960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ternet Mail Access Protoc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IMA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Times New Roman"/>
              </a:rPr>
              <a:t>RFC 3501 (IMAP v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8E3-BE38-4053-B8D9-37E0A57139F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914400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ILE TRANSFER PROTOCOL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FT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токол пересылки файл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495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RFC 9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6C3-1FDF-4545-ADA9-B7B089955E7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реимущества протокол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MAP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362320"/>
            <a:ext cx="8458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Усиленная аутентиф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оддержка нескольких почтовых ящ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Улучшенная поддержка автономного и               подключенного режимов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125-8809-4B1E-AB59-CAA969402A5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сновные приложения сети Интер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2057400"/>
            <a:ext cx="365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TELN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WW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41E-84EA-49D6-AC2B-BC269C4781C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Рождение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WW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081160" y="2773440"/>
            <a:ext cx="4983120" cy="2712960"/>
            <a:chOff x="2081160" y="2773440"/>
            <a:chExt cx="4983120" cy="2712960"/>
          </a:xfrm>
        </p:grpSpPr>
        <p:sp>
          <p:nvSpPr>
            <p:cNvPr id="234" name=""/>
            <p:cNvSpPr/>
            <p:nvPr/>
          </p:nvSpPr>
          <p:spPr>
            <a:xfrm>
              <a:off x="2081160" y="2773440"/>
              <a:ext cx="4983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81160" y="2773440"/>
              <a:ext cx="4983120" cy="27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6" name="cern_sign" descr="CERN sign"/>
          <p:cNvPicPr/>
          <p:nvPr/>
        </p:nvPicPr>
        <p:blipFill>
          <a:blip r:embed="rId2"/>
          <a:stretch/>
        </p:blipFill>
        <p:spPr>
          <a:xfrm>
            <a:off x="420840" y="2819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_40390171_berners_knight203b" descr="Sir Tim Berners-Lee, inventor of the web"/>
          <p:cNvPicPr/>
          <p:nvPr/>
        </p:nvPicPr>
        <p:blipFill>
          <a:blip r:embed="rId3"/>
          <a:stretch/>
        </p:blipFill>
        <p:spPr>
          <a:xfrm>
            <a:off x="4343400" y="2819520"/>
            <a:ext cx="3200400" cy="239544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3411360" y="2560680"/>
            <a:ext cx="5616720" cy="360"/>
            <a:chOff x="3411360" y="2560680"/>
            <a:chExt cx="5616720" cy="360"/>
          </a:xfrm>
        </p:grpSpPr>
        <p:sp>
          <p:nvSpPr>
            <p:cNvPr id="239" name=""/>
            <p:cNvSpPr/>
            <p:nvPr/>
          </p:nvSpPr>
          <p:spPr>
            <a:xfrm>
              <a:off x="3411360" y="2560680"/>
              <a:ext cx="561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411360" y="2560680"/>
              <a:ext cx="3714840" cy="360"/>
              <a:chOff x="3411360" y="2560680"/>
              <a:chExt cx="3714840" cy="360"/>
            </a:xfrm>
          </p:grpSpPr>
          <p:sp>
            <p:nvSpPr>
              <p:cNvPr id="241" name=""/>
              <p:cNvSpPr/>
              <p:nvPr/>
            </p:nvSpPr>
            <p:spPr>
              <a:xfrm>
                <a:off x="3411360" y="2560680"/>
                <a:ext cx="3714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411360" y="2560680"/>
                <a:ext cx="18129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4078440" y="5214960"/>
            <a:ext cx="36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Тим Бернерс-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86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8680" y="2035080"/>
            <a:ext cx="81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Европейская лаборатория по ядерным исследовани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A88-00E4-4320-A338-AF5A650C638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cern_sign" descr="CERN sign"/>
          <p:cNvPicPr/>
          <p:nvPr/>
        </p:nvPicPr>
        <p:blipFill>
          <a:blip r:embed="rId2"/>
          <a:stretch/>
        </p:blipFill>
        <p:spPr>
          <a:xfrm>
            <a:off x="1447920" y="380880"/>
            <a:ext cx="2017440" cy="1513080"/>
          </a:xfrm>
          <a:prstGeom prst="rect">
            <a:avLst/>
          </a:prstGeom>
          <a:ln w="0">
            <a:noFill/>
          </a:ln>
        </p:spPr>
      </p:pic>
      <p:pic>
        <p:nvPicPr>
          <p:cNvPr id="247" name="d041015-logo" descr="About this 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884160"/>
            <a:ext cx="2017800" cy="1006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736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w3c-sm" descr="W3 Consortium"/>
          <p:cNvPicPr/>
          <p:nvPr/>
        </p:nvPicPr>
        <p:blipFill>
          <a:blip r:embed="rId5"/>
          <a:stretch/>
        </p:blipFill>
        <p:spPr>
          <a:xfrm>
            <a:off x="3276720" y="2666880"/>
            <a:ext cx="2087280" cy="1584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819520" y="2057400"/>
            <a:ext cx="1295280" cy="839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23920" y="2057400"/>
            <a:ext cx="1295640" cy="839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998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www.w3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870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WW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онсорциу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321-1A93-4C36-8EDA-55796DFB665D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дентификация ресурсов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7524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RL (Uniform Resource Locat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281952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 адре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w3.org/Protocols/Activit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0384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протокол://сервер.домен/каталог/фай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906-B707-44A6-A606-B463790D105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опулярные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Web-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серверы и брауз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p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crosoft I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tscape Enterpris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icrosoft Internet Explo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Netscape 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1935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в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1935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рауз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9E3-205B-46A3-8ABA-2F9F89CC846E}" type="slidenum">
              <a:t>3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685800"/>
            <a:ext cx="914400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Hypertext Transfer Protoc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HTT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RFC 2616 (HTTP/1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C90-53AB-4999-8B89-02F40848F352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Обмен данными между клиентом и сервер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220968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раузер подключается к сервер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раузер запрашивает документ с серв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ервер передает браузеру запрошенные да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язь разрыв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846-A197-4934-A7D6-41E9FD9A7D7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роцесс загрузки страни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w3.org/Protocols/Activity.htm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Браузер определяет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Браузер запрашивает у службы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NS IP-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адрес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www.w3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NS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дает ответ 18.7.14.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Браузер устанавливает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CP-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соединение с 80-м портом машины 18.7.14.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Браузер отдает команду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ET /Protocols/Activit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Сервер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www.w3.org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высылает файл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ctivit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CP-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соединение разрыва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Браузер отображает текст файла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Activit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FBF-DCC1-4D58-97CB-F14883ACE0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труктура клиентского за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Метод за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Заголовок за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Данные за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252-3CBB-482F-BB07-3C94A28A04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Место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TP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в моделях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OSI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и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TCP/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4290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риклад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24188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ете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3544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Транспор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6483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Физ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429000"/>
            <a:ext cx="2514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Транспор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4241880"/>
            <a:ext cx="2514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Кан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35440"/>
            <a:ext cx="2514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ете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4648320"/>
            <a:ext cx="2514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Физ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209680"/>
            <a:ext cx="2514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риклад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616120"/>
            <a:ext cx="2514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Представитель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3022560"/>
            <a:ext cx="2514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Сеансов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65760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24382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454560"/>
            <a:ext cx="75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239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0547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03848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8401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558-6A58-4AA1-915B-C4BED57266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Допустимые методы за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1204920"/>
          <a:ext cx="8610840" cy="4832280"/>
        </p:xfrm>
        <a:graphic>
          <a:graphicData uri="http://schemas.openxmlformats.org/drawingml/2006/table">
            <a:tbl>
              <a:tblPr/>
              <a:tblGrid>
                <a:gridCol w="1371600"/>
                <a:gridCol w="72392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Запрашивает указанный док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Запрашивает только заголовок док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ервер должен интерпретировать указанный документ как исполняемую программу и передать ему некоторые 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Заменяет содержимое указанного документа данными, полученными от кли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E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Запрашивает удаление указанной 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O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спользуется клиентом для получения информации о возможностях и требованиях серв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спользуется при тестировании для передачи клиенту информации о том, как было получено сооб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0D5-4E0C-490E-A1EE-D92DDD9C1A4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Типы заголовков клиентского зап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80880" y="2158920"/>
          <a:ext cx="8610840" cy="2539800"/>
        </p:xfrm>
        <a:graphic>
          <a:graphicData uri="http://schemas.openxmlformats.org/drawingml/2006/table">
            <a:tbl>
              <a:tblPr/>
              <a:tblGrid>
                <a:gridCol w="1752840"/>
                <a:gridCol w="6858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олов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cc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ип данных, принимаемых клиен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uthor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Аутентификационные 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User-Ag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ип клиентской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Refe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eb-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траница, с которой пришел кли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0EA-9390-4A9A-BCAD-B8B7158DEF2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Структура ответа серв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Код состоя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Заголовок от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Данные от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039-9E7D-490A-8D71-B7F889BB90C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Некоторые из кодов состояния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04920" y="1523880"/>
          <a:ext cx="8610480" cy="4476960"/>
        </p:xfrm>
        <a:graphic>
          <a:graphicData uri="http://schemas.openxmlformats.org/drawingml/2006/table">
            <a:tbl>
              <a:tblPr/>
              <a:tblGrid>
                <a:gridCol w="990360"/>
                <a:gridCol w="76201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нформационные к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Успешные к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p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шибки кли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Requ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uthor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ment Requ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bid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E1C-7267-4698-B32E-7718775A087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Заголовки ответов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219320"/>
          <a:ext cx="8610840" cy="4640040"/>
        </p:xfrm>
        <a:graphic>
          <a:graphicData uri="http://schemas.openxmlformats.org/drawingml/2006/table">
            <a:tbl>
              <a:tblPr/>
              <a:tblGrid>
                <a:gridCol w="2438640"/>
                <a:gridCol w="617220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Информация о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eb-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ерв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екущая дата/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Last Mod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Дата/время последней модификации запрашиваемого док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xp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Дата/время, когда запрашиваемый документ становится недействитель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Content-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ип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ME 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Content-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Размер данных (в байт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WWW-authentic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ередача клиенту информации, необходимой для выполнения аутент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0D0-4AE5-41CA-9AA6-510DE24D10C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ример сеанс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TTP </a:t>
            </a:r>
            <a:br>
              <a:rPr sz="4400"/>
            </a:b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(запрос клиент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82880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GET /index.html HTTP/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Accept: text/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Accept: text/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User‑Agent: Mozilla/4.5(WIn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(пустая строка)</a:t>
            </a:r>
            <a:r>
              <a:rPr b="1" lang="ru-RU" sz="24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FA4-1476-487D-96FD-FAA7FB06039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ример сеанс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TTP </a:t>
            </a:r>
            <a:br>
              <a:rPr sz="4400"/>
            </a:b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(ответ сервера – данные найден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371600"/>
            <a:ext cx="80010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Date Sunday, 15-jul-99 12:18:03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Server: Apache/1.3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MIME-version: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Last-modified: Thursday, 02-Jun-99 20:43:56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Content-length: 14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(</a:t>
            </a:r>
            <a:r>
              <a:rPr b="1" lang="ru-RU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пустая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строка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title&gt;Example Server-Browser Communication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/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HEAD</a:t>
            </a:r>
            <a:r>
              <a:rPr b="1" lang="ru-RU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BODY</a:t>
            </a:r>
            <a:r>
              <a:rPr b="1" lang="ru-RU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……………</a:t>
            </a:r>
            <a:r>
              <a:rPr b="1" lang="ru-RU" sz="16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B67-EE7B-4C5F-BE75-AA6EDA0DB4E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ример сеанс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HTTP </a:t>
            </a:r>
            <a:br>
              <a:rPr sz="4400"/>
            </a:b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(ответ сервера – данные не найден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8288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HTTP/1.1 404 NOT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Date Sunday, 15-Jul-99 12:18:03 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Server: Apache/1.3.6</a:t>
            </a:r>
            <a:r>
              <a:rPr b="1" lang="ru-RU" sz="24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E40-8263-4960-927A-D04044BA3D9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Times New Roman"/>
              </a:rPr>
              <a:t>Языки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Web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1600200"/>
            <a:ext cx="2362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JavaScri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1600200"/>
            <a:ext cx="2362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ctiv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ur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524-CE35-493B-BA1B-83D2FC04A0C4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5299200" cy="59436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Поиск информации в сети </a:t>
            </a:r>
            <a:br>
              <a:rPr sz="6000"/>
            </a:b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Интерне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1D0-0E80-4428-BFB9-6F05AE62989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одключение клиент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TP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 сервер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438280"/>
            <a:ext cx="2286000" cy="213372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438280"/>
            <a:ext cx="2286000" cy="213372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191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290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ой порт с номером 1024 и выш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9006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ой порт с номером 1024 и выш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651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т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4022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т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572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иент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4572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4829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правляющий пор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38545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рт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EAA-C449-462F-96C7-0DB5CC75C6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556000" y="582480"/>
            <a:ext cx="4465440" cy="2104920"/>
          </a:xfrm>
          <a:prstGeom prst="rect">
            <a:avLst/>
          </a:prstGeom>
          <a:solidFill>
            <a:srgbClr val="ff9933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поисков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4254480"/>
            <a:ext cx="388800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ндексирующ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4254480"/>
            <a:ext cx="388800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763280" y="2722680"/>
            <a:ext cx="2737080" cy="1531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6720" y="2722680"/>
            <a:ext cx="1944720" cy="15318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56000" y="2708280"/>
            <a:ext cx="44654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FC8-8E44-4F1F-A1B5-760E7C0C24ED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Примеры каталог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aho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Google Dire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bout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pen Dire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Ramb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Times New Roman"/>
              </a:rPr>
              <a:t>Я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nd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3CE-D23C-47A3-9402-07A35BA8DED8}" type="slidenum">
              <a:t>5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римеры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индексирующих поисковых систе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ltavi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y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llthe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xc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eo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Ramb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Times New Roman"/>
              </a:rPr>
              <a:t>Я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nd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A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B64-EC5E-422C-857C-AF8CC400DF4D}" type="slidenum">
              <a:t>5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46200" y="836640"/>
            <a:ext cx="7704000" cy="1944720"/>
          </a:xfrm>
          <a:prstGeom prst="rect">
            <a:avLst/>
          </a:prstGeom>
          <a:solidFill>
            <a:srgbClr val="ff5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33480" y="1123920"/>
            <a:ext cx="2376360" cy="1312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ahoo!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re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86560" y="1123920"/>
            <a:ext cx="2376360" cy="1312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en Dire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73480" y="148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89480" y="1700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6200" y="3753000"/>
            <a:ext cx="7704000" cy="1944360"/>
          </a:xfrm>
          <a:prstGeom prst="rect">
            <a:avLst/>
          </a:prstGeom>
          <a:solidFill>
            <a:srgbClr val="ff5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73480" y="278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8948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6200" y="429264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D5C-7EE8-4583-A762-02432A867C47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66560" y="184464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6560" y="206064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6560" y="2276640"/>
            <a:ext cx="936720" cy="21564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6560" y="249228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6560" y="270828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6560" y="2924280"/>
            <a:ext cx="936720" cy="21564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6560" y="313992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6560" y="335592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03280" y="184464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03280" y="206064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03280" y="2276640"/>
            <a:ext cx="936720" cy="21564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03280" y="249228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03280" y="270828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03280" y="2924280"/>
            <a:ext cx="936720" cy="21564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03280" y="313992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355920"/>
            <a:ext cx="936720" cy="2160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6560" y="3571920"/>
            <a:ext cx="936720" cy="5763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3571920"/>
            <a:ext cx="936720" cy="5763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5400000">
            <a:off x="863280" y="944280"/>
            <a:ext cx="142920" cy="9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1800000" y="944280"/>
            <a:ext cx="142920" cy="93672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6560" y="844560"/>
            <a:ext cx="93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казатели н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66204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казатели на заголов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6560" y="414828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1844640"/>
            <a:ext cx="1584360" cy="432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59280" y="1484280"/>
            <a:ext cx="20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ранилище стр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1844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2276640"/>
            <a:ext cx="1584360" cy="43164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2263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2708280"/>
            <a:ext cx="1584360" cy="431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70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3139920"/>
            <a:ext cx="1584360" cy="4320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1273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3571920"/>
            <a:ext cx="158436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414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6000" y="1844640"/>
            <a:ext cx="208908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96000" y="2048040"/>
            <a:ext cx="208908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6000" y="2263680"/>
            <a:ext cx="208908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2479680"/>
            <a:ext cx="208908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695680"/>
            <a:ext cx="208908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6000" y="2911320"/>
            <a:ext cx="208908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6000" y="3343320"/>
            <a:ext cx="208908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6000" y="3127320"/>
            <a:ext cx="2089080" cy="21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6000" y="3571920"/>
            <a:ext cx="208908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6000" y="414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92720" y="1341360"/>
            <a:ext cx="7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эш-к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181620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92720" y="20606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92720" y="22636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92720" y="39038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8442720" y="999000"/>
            <a:ext cx="142920" cy="1258920"/>
          </a:xfrm>
          <a:custGeom>
            <a:avLst/>
            <a:gdLst>
              <a:gd name="textAreaLeft" fmla="*/ 91440 w 142920"/>
              <a:gd name="textAreaRight" fmla="*/ 143280 w 142920"/>
              <a:gd name="textAreaTop" fmla="*/ 32760 h 1258920"/>
              <a:gd name="textAreaBottom" fmla="*/ 12261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85080" y="10605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Цепочка индек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85080" y="18464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20638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85080" y="23018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99480" y="25239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186760" y="1714680"/>
            <a:ext cx="22212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186760" y="2013120"/>
            <a:ext cx="22212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172360" y="2444760"/>
            <a:ext cx="41112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732880" y="2444760"/>
            <a:ext cx="411120" cy="24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8F0-1F13-46BE-A9EF-26424D395F14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Проблемы при построении поисков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Устаревание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L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адре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Выбор стартового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L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адр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ндексирование информации, отличной от тек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Неинформативные заголовки стран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D72-F773-4F36-B4CE-967991EB0E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Стратегия поиска в Интернет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560" y="1403280"/>
            <a:ext cx="889308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ыбор основного понятия, описывающего предмет по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ыбор ключевых с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дбор синонимов к ключевым слов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ыбор подходящих операторов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OR, AND,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ыбор поисковой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зучение особенностей поисковой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дготовка выражений для по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оведение нескольких запр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одифицирование запросов в зависимости от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ыполнение запроса на других поисковых систем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49F-CF30-4C7B-B885-F0994DAB08BD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ример ответа сервер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752480"/>
            <a:ext cx="7772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 PORT command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50 Opening ASCII mode data connection for .message (127 by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56 Transfer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: .message remote: .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35 bytes received in 1,4 seconds (0,09 Kbytes/s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874-EB19-4177-8F28-67CA37E306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одключение клиент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TP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 сервер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2438280"/>
            <a:ext cx="2286000" cy="213372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2438280"/>
            <a:ext cx="2286000" cy="213372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4191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5290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ой порт с номером 1024 и выш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9006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ой порт с номером 1024 и выш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2651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т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022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т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572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иент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572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4191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рт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3876840"/>
            <a:ext cx="152640" cy="290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33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AS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DF2-515C-4C33-ACE2-1BE2CA29D6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Подключение клиента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TP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к сервер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438280"/>
            <a:ext cx="2286000" cy="213372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2438280"/>
            <a:ext cx="2286000" cy="213372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191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5290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ой порт с номером 1024 и выш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90060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юбой порт с номером 1024 и выш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51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т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022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т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572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иент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572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ерв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4829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правляющий пор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8545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рт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3A9-6DB6-42AB-A776-E8B044D1CC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Синтаксис команды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ft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90920"/>
            <a:ext cx="914400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urier New"/>
                <a:ea typeface="Courier New"/>
              </a:rPr>
              <a:t>ftp</a:t>
            </a:r>
            <a:r>
              <a:rPr b="1" lang="ru-RU" sz="4400" spc="-1" strike="noStrike">
                <a:solidFill>
                  <a:srgbClr val="3333cc"/>
                </a:solidFill>
                <a:latin typeface="Courier New"/>
                <a:ea typeface="Courier New"/>
              </a:rPr>
              <a:t> [параметры] [хост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ftp</a:t>
            </a:r>
            <a:r>
              <a:rPr b="1" lang="ru-RU" sz="44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&gt;</a:t>
            </a:r>
            <a:r>
              <a:rPr b="1" lang="en-US" sz="44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3333cc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Иванов Алексей, ЦНИИС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C43-2E70-4981-A5E1-B63905A242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8 октября 2004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1:02:32Z</dcterms:created>
  <dc:creator>Ivanov</dc:creator>
  <dc:description/>
  <dc:language>en-US</dc:language>
  <cp:lastModifiedBy>alexey a ivanov</cp:lastModifiedBy>
  <dcterms:modified xsi:type="dcterms:W3CDTF">2004-10-18T05:02:57Z</dcterms:modified>
  <cp:revision>23</cp:revision>
  <dc:subject/>
  <dc:title>Основные приложения сети  Интернет</dc:title>
</cp:coreProperties>
</file>