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FC2A-BA31-4799-8068-16CFC6A883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ма лекции: Технологии текстового по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2FA7-DFB0-4BF8-A515-1B3D96B5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978-3582-4D1E-902F-C240205B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CC8-EC62-4BDD-B2BE-71C9D398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009-9F59-4F8F-94F7-6BF05EBD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EF89-D451-4730-A394-7BFF5AA3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5475-1958-43CE-A1A4-48037A22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886C-49A6-41E8-9C0D-8D5CB48D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A286-0AEF-4F39-9AD0-223B94CE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1DC7-8CF6-4505-8A36-405F9B8E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011C-2B44-41BC-8FF9-1117FA85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D04B-6047-4BEC-8B33-979E3371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E84-05BD-4F62-A23B-60710816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D753-C189-42A7-B447-F77F2DDE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CA57-796A-42A2-A2AD-E0FFC160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555F-8581-4403-A9D1-C89606B9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1123-E235-4CA4-BC95-752B997A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C03A-73CF-40EC-86DD-B9FAE85F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2A3-07CD-4D34-AD4C-04D20378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388D-49FA-444C-B2CE-E6B3DC35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561-51DF-4299-A0C1-09092C72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209B-08FE-465D-B5F2-F5A0AC6C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911-B7C6-456B-8FB2-D09DBB87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B61C-4AFF-466F-B831-D5CB0AB2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929-3FB2-4FF8-B6A8-10C27B58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3FEF-DA62-4665-BCAB-0632405CF0B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23A1-D324-4AB7-A397-E938904941F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2565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Технологии текстового поис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06560" y="117000"/>
            <a:ext cx="828036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Представления документов и их индексирова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9800" y="1373040"/>
            <a:ext cx="8592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Представления документов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труктурированные представления содержания документ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троение представления каждого документа в системе осуществляется 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однократ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Индексирующими свойствами документ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азываются атрибуты, ассоциированные с документо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Индексирование документ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процесс назначения документу атрибут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Дескриптор документ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совокупность слов или словосочетаний лексики предметной области, характеризующей содержание данного докумен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6400" y="2408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Простой контекстный поис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0280" y="1125000"/>
            <a:ext cx="812808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Контекстный поис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поиск, при котором представление документа как совокупности всевозможных встречающихся в его тексте слов и словосочетаний, не считая стоп-сл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Стоп-слова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служебные слова (предлоги, союзы), которые содержатся практически в любом документе и не являются информативны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При простом контекстно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оиске документ считается </a:t>
            </a: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релевантны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если какие-либо слова или словосочетания из запроса встречаются с точностью до грамматических форм в тексте документ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560" y="209160"/>
            <a:ext cx="74898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Общие принципы текстового поис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553760"/>
            <a:ext cx="769608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 вводе документов в систему осуществляется его индексирование и строится его представл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 поступлении пользовательского запроса на него строится соответствующее представл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исходит сопоставление представления запроса с представлениями хранимых в системе документов по некоторому критерию близо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зультат обработки запроса – множество найденных релевантных докумен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Модели текстового поис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39800" y="1414440"/>
            <a:ext cx="76960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д 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моделью поис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нимается сочета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особа представления докумен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особа представления поисковых запро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ыбранного критерия релевантности документо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 того какая 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модель поис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реализована в системе текстового поиска зависят ее 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функциональные возможнос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489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Модели текстового поис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220400"/>
            <a:ext cx="793584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вестны следующие модели текстового поис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стейшие модели поис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одели, основанные на классификатор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улевские моде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кторные моде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роятностные моде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ети вывод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560" y="117360"/>
            <a:ext cx="7993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Простейшие и основанные на классификаторах модели поиск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2000" y="1341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i="1" lang="en-US" sz="2200" spc="-1" strike="noStrike">
                <a:solidFill>
                  <a:srgbClr val="3366cc"/>
                </a:solidFill>
                <a:latin typeface="Comic Sans MS"/>
              </a:rPr>
              <a:t>Простейшие модели поиска</a:t>
            </a:r>
            <a:r>
              <a:rPr b="0" lang="en-US" sz="22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2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модели, в которых документ представляется в виде ассоциативных с ним внешних атрибутов (например, модель дескрипторного поиска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200" spc="-1" strike="noStrike">
                <a:solidFill>
                  <a:srgbClr val="3366cc"/>
                </a:solidFill>
                <a:latin typeface="Comic Sans MS"/>
              </a:rPr>
              <a:t>Модели, основанные на классификаторах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– являются разновидностью простейших моделей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существует некоторый классификатор документов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лассификатор разбит на классы (имеет иерархическую структуру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лассы имеют идентификаторы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документы представляются идентификаторами классов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запросы – также идентификаторы классов из классификатора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Булевские модел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3640" y="1436400"/>
            <a:ext cx="7885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Булевская модель поис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модель, в которой пользователь может формулировать запрос в виде булевского выражения с использованием операторов И, ИЛИ, НЕТ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Критерий релевантност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документа запросу при использовании 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булевской модел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иска -  истинность булевского выражения, заданного в запрос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Недостаток булевской модел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нет возможности ранжировать найденные документы по степени релевант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7489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Векторные модели поис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04280" y="1268280"/>
            <a:ext cx="76964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Векторные модели поиска</a:t>
            </a:r>
            <a:r>
              <a:rPr b="0" lang="ru-RU" sz="24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модели, в которых документы и запросы представляются вектор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Координаты вектор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описывают слова или словосочетания из словаря предметной области (а может и общелексического) докумен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ждому слову или словосочетанию из словаря ставится в соответствие свое измерение в векторном пространств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4898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Вероятностные модели поиска и сети вывод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7640" y="141120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основе вероятностных моделей лежит принцип 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вероятностного ранжирова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Суть принципа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для каждого документа оценивается вероятность его релевантности запросу и по этим оценкам выполняется ранжирование документов (по убыванию вероятности их релевантности запросу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Сети вывод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основаны на том же принципе вероятностного ранжирования, но оценивается для каждого документа не вероятность его релевантности запросу, а вероятность того, что он удовлетворяет информационным потребностям пользовател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4898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Дополнительные возможности систем текстового поис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яду с базовыми функциями поисковые системы обладают следующими </a:t>
            </a: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дополнительными возможностя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звешивание термов запро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нжирование результатов поис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ратная связь релевантно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ширение запро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ультиязыковой поис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осс-языковой поис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ильтрация документов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Comic Sans MS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0280" y="1779480"/>
            <a:ext cx="769644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нципы построения систем текстового поис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дели текстового поис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полнительные возможности систем текстового поис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исковая систем Яндек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4898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Нетрадиционные направления технологий поис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лучайный поис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иск известных элементов коллек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веты на вопрос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иск голосовых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иск видеоданн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иск в базах данн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иск текстовых ресурсов в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489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Comic Sans MS"/>
              </a:rPr>
              <a:t>Поисковая система Яндек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7640" y="90756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3366cc"/>
                </a:solidFill>
                <a:latin typeface="Comic Sans MS"/>
              </a:rPr>
              <a:t>Яндек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крупная поисковая система, обрабатывающая около 3 миллионов пользовательских запросов в ден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вная задача поисковых систем: сохранение приемлемых для пользователей скорости и полноты выполнения запросов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и основных подхода к решению этой проблемы, используемые на Яндексе (и во многих других системах)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птимизация базовых поисковых алгоритмов и архитектуры поиск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гулярное увеличение мощностей вычислительных ресурсов поисковой системы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пользование архитектурной возможности масштабирования системы (если масштабируемость была заложена при проектировании системы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птимизация поисковых алгоритмов и архитектуры поиска на Яндексе производится 2 раза в год и даёт в среднем 20-30% уменьшения нагрузки и/или уменьшения времени откли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4392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Comic Sans MS"/>
              </a:rPr>
              <a:t>Как устроен Яндек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6360" y="836640"/>
          <a:ext cx="914400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" y="836640"/>
                    <a:ext cx="914400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403200"/>
            <a:ext cx="7489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Comic Sans MS"/>
              </a:rPr>
              <a:t>Поисковая система Яндек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3366cc"/>
                </a:solidFill>
                <a:latin typeface="Comic Sans MS"/>
              </a:rPr>
              <a:t>Верхний уровень – уровень поискового веб-серве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пределение нагрузки между фронтальными веб-серверами выполняют Cisco - сетевые устройства балансировки нагруз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ждый пользователь в зависимости от своего IP-адреса перенаправляется на наименее загруженный веб-сервер из 10, используемых в поиске Яндекс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3366cc"/>
                </a:solidFill>
                <a:latin typeface="Comic Sans MS"/>
              </a:rPr>
              <a:t>Средний уровень – уровень поисковой систем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уровне поисковой системы можно выделить несколько приемов распараллеливан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560" y="403200"/>
            <a:ext cx="7489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Comic Sans MS"/>
              </a:rPr>
              <a:t>Поисковая система Яндек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720" y="836280"/>
            <a:ext cx="8567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3366cc"/>
                </a:solidFill>
                <a:latin typeface="Comic Sans MS"/>
              </a:rPr>
              <a:t>Разделение коллекции документов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Яндексе используется "параллельный поиск" в нескольких поисковых источниках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200" spc="-1" strike="noStrike">
                <a:solidFill>
                  <a:srgbClr val="3366cc"/>
                </a:solidFill>
                <a:latin typeface="Comic Sans MS"/>
              </a:rPr>
              <a:t>Параллельный поиск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- это одновременный поиск в специализированных базах (коллекциях), предлагаемых поисковой системой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200" spc="-1" strike="noStrike">
                <a:solidFill>
                  <a:srgbClr val="3366cc"/>
                </a:solidFill>
                <a:latin typeface="Comic Sans MS"/>
              </a:rPr>
              <a:t>Источник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- это отдельная база небольшого размера, отличная от "большой" базы документов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Если при поиске по обычной базе находятся документы из базы параллельного поиска, соответствующие запросу, то параллельно с обычным результатами поиска выдаётся список найденных документов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аза параллельных источников имеет существенно меньший размер, чем база web-поиска. Обход и индексация документов в ней осуществляется отдельным роботом, поэтому обновление базы может происходить очень быстро (вплоть до ежеминутного)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560" y="403200"/>
            <a:ext cx="7489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Comic Sans MS"/>
              </a:rPr>
              <a:t>Поисковая система Яндек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6720" y="909360"/>
            <a:ext cx="8423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"Яндексе" есть четыре базы параллельного поиска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новостям (обновление каждые 10 минут, ежедневно около 3,000 новостей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товарным предложениям интернет-магазинов (ежедневное обновление, ~300000 товаров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заголовкам статей энциклопедий (обновление раз в месяц, около 200000 статей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каталогу ("ручному" описанию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ресурсов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обый интерес с точки зрения традиционны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исковых технологий представляет техн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деления большой базы документов, то е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бственно базы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страниц. Сейчас она состоит из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0 млн. документов и разделена на 30 частей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560" y="403200"/>
            <a:ext cx="7489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Comic Sans MS"/>
              </a:rPr>
              <a:t>Поисковая система Яндек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6720" y="909360"/>
            <a:ext cx="8423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3366cc"/>
                </a:solidFill>
                <a:latin typeface="Comic Sans MS"/>
              </a:rPr>
              <a:t>Первая фаза обработки запроса. Выбор коллекции. Трансформации запрос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ьзователь может явно указать, в какой коллекции следует искать. Если этого не сделано, то на основе лингвистического анализа запроса Яндекс может сделать допущение о приоритете специализированной коллекции или подходящей к характеру запроса рубрики каталог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3366cc"/>
                </a:solidFill>
                <a:latin typeface="Comic Sans MS"/>
              </a:rPr>
              <a:t>Вторая фаза обработки запроса. Раздача запроса по коллекция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ычно используются все коллекции. Собирающий сервер раздает в коллекции модифицированные запрос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560" y="403200"/>
            <a:ext cx="7489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cc"/>
                </a:solidFill>
                <a:latin typeface="Comic Sans MS"/>
              </a:rPr>
              <a:t>Поисковая система Яндек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6720" y="909360"/>
            <a:ext cx="8423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3366cc"/>
                </a:solidFill>
                <a:latin typeface="Comic Sans MS"/>
              </a:rPr>
              <a:t>Третья фаза обработки запроса. Исполнение и ранжирование запроса в коллекция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прос выполняется параллельно для всех коллекци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ияние результатов производится на том из собирающих (метапоисковых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сервере, на которую попадал пользователь при заходе по адресу www.yandex.ru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3366cc"/>
                </a:solidFill>
                <a:latin typeface="Comic Sans MS"/>
              </a:rPr>
              <a:t>Нижний уровень – уровень компьюте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шины поисковой системы Яндекс работают на PC-серии процессоров (Pentium II, III, IV) компании Intel. На многих поисковых компьютерах установлено по 2 процессо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Основные технологии информационных систе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37960" y="1987560"/>
            <a:ext cx="7956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ые информационные технологии, на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торых базируются современные информационные систем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хнологии баз данн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хнологии текстового поис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хнологи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247680"/>
            <a:ext cx="68706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Основные поня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9040" y="1108080"/>
            <a:ext cx="8243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хнологии текстового поиска имеют дело с 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информацие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представленной на естественных язык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знообразие информаци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тать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хнические руководст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чет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исьма и т.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сновная единица информации – 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докумен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Докумен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порция информации, обладающая законченным содержанием и какого-либо рода уникальным идентификатором и представленная на каком-либо естественном языке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000" y="326520"/>
            <a:ext cx="6870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Обработка естественного язы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960" y="1560600"/>
            <a:ext cx="83293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Обработка естественного язы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компьютерное решение задач, связанных с пониманием, анализом, выполнением различных операций над текстами на естественном языке, а также с их генерацие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ля анализа текстов в современных поисковых системах используются следующие технологи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ппарат лингвисти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татистические мет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ппарат математической логи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ория вероятно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тоды искусственного интеллек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хнологии управления данны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Возможности современных поисковых систем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819080"/>
            <a:ext cx="7696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ранение огромных объемов информ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существление тонкой обработки докумен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ыполнение алгоритмически сложных процедур обработки хранимых документов, а имен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ластериза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нализ текс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еревод документов с одного языка на друг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19980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Пользовательские запрос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67800" y="1361880"/>
            <a:ext cx="76964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Пользовательским запросом</a:t>
            </a:r>
            <a:r>
              <a:rPr b="0" lang="en-US" sz="24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зывается представление информационных потребностей пользователя в форме, воспринимаемой программным обеспечением системы текстового поис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Формы пользовательских запросов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бор ключевых сл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бор слов, соединенных символами булевских оператор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дложение на естественном язык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мер докумен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36480" y="142920"/>
            <a:ext cx="68709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Релевантность докумен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6840" y="730080"/>
            <a:ext cx="85248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ранящиеся в системе документы, соответствующие пользовательскому запросу, называются </a:t>
            </a: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релевантны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Степень релевантности документ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значение специальной числовой функции в интервал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0,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используемой для оценки релевант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орядочивание документов, полученных в результате обработки пользовательских запросов,</a:t>
            </a:r>
            <a:r>
              <a:rPr b="0" lang="ru-RU" sz="24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убыванию степени релевантности, называется </a:t>
            </a: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ранжирование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Информационным шумо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зываются документы, найденные в результате обработки пользовательских запросов и не соответствующие информационным потребностям пользовате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20160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Полнота и точность поис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7480" y="1309680"/>
            <a:ext cx="797076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арактеристики качества поиска в системах текстового поиска – 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полнота и точность поис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Полнота поис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определяет соотношение количества релевантных документов, выдаваемых в результате обработки пользовательских запросов и фактически имеющихся в системе релевантных документ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Точность поис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доля релевантных документов во множестве найденных по запросу документ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1T08:03:29Z</dcterms:created>
  <dc:creator>Goroh</dc:creator>
  <dc:description/>
  <dc:language>en-US</dc:language>
  <cp:lastModifiedBy>Goroh</cp:lastModifiedBy>
  <dcterms:modified xsi:type="dcterms:W3CDTF">2004-11-14T22:32:38Z</dcterms:modified>
  <cp:revision>32</cp:revision>
  <dc:subject/>
  <dc:title>Информационные системы</dc:title>
</cp:coreProperties>
</file>